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6271-787A-4344-A29E-1A40DE3B8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7C74-CD31-40CE-B1DD-18C1FAB67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3FBB-3096-4485-9596-0520F2C95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AD28-9FEF-4D55-87B5-DB522D864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FCDF-DBAC-40D9-8589-28E7F1511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0FB0-DEA3-4774-81C4-B615B4B76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3D4D-0393-474C-8BA3-1DEA03F9C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CB68-173F-42B4-888E-6E1620EBD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D8F8-351A-42AF-B4FC-785CDDFD3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A60E-FA98-4313-B950-8BCD68061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6BF9-64C4-4079-A2C7-E9677B098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B982-3F83-42C6-A3BF-07051061F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06D2-7C0B-426D-84C4-B8561F1C7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702-04A8-4723-A722-B903DA3E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9F0-EE78-4B16-8CD4-C454F15A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F9F-8675-4E74-BD8D-F8598BE8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1A4-2FCF-4D03-9322-597DE640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AB1-E960-47E8-8F22-0C789059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D36-D1E1-4E94-8177-C6993E38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FF9-12C7-4EF4-BEFE-6949F698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07C-22A8-4CC9-BBC0-4000145F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4FE-DE26-4105-9AA4-7D6A6804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C40-5134-4A3F-8065-654261D8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617-8423-41B4-9526-B7A16CB0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D7D-6983-490A-884B-F183F10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A074-992B-4049-98EC-23EA3DB53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ECK VA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100_1557_edited"/>
          <p:cNvPicPr/>
          <p:nvPr/>
        </p:nvPicPr>
        <p:blipFill>
          <a:blip r:embed="rId1"/>
          <a:stretch/>
        </p:blipFill>
        <p:spPr>
          <a:xfrm>
            <a:off x="5181480" y="2209680"/>
            <a:ext cx="3276720" cy="3022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09480" y="1447920"/>
            <a:ext cx="419112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e installed to prevent the reverse flow of gases that would result in a combustible mixture in the welding hose, check valves are mounted to the welding torch handle and at the regulator outlet connec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eck valves are necessary safety devices attached between the hoses and the regulator outlet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xygen Regulator- Working Gauge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ft side- above green hose connection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*NEVER EXCEED 40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100_1584_edited"/>
          <p:cNvPicPr/>
          <p:nvPr/>
        </p:nvPicPr>
        <p:blipFill>
          <a:blip r:embed="rId1"/>
          <a:stretch/>
        </p:blipFill>
        <p:spPr>
          <a:xfrm>
            <a:off x="2362320" y="1981080"/>
            <a:ext cx="4365360" cy="441828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 flipH="1">
            <a:off x="3657240" y="1676520"/>
            <a:ext cx="106668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Reg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100_1591_edited"/>
          <p:cNvPicPr/>
          <p:nvPr/>
        </p:nvPicPr>
        <p:blipFill>
          <a:blip r:embed="rId1"/>
          <a:stretch/>
        </p:blipFill>
        <p:spPr>
          <a:xfrm>
            <a:off x="2286000" y="1600200"/>
            <a:ext cx="46483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Regulator- Cylinder Pressure Gauge</a:t>
            </a:r>
            <a:br>
              <a:rPr sz="3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 side- closest to cylin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100_1683_edited"/>
          <p:cNvPicPr/>
          <p:nvPr/>
        </p:nvPicPr>
        <p:blipFill>
          <a:blip r:embed="rId1"/>
          <a:stretch/>
        </p:blipFill>
        <p:spPr>
          <a:xfrm>
            <a:off x="2438280" y="1600200"/>
            <a:ext cx="40975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Regulator- Working Gaug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ft side- above red hose connection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*NEVER EXCEED 15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100_1682_edited"/>
          <p:cNvPicPr/>
          <p:nvPr/>
        </p:nvPicPr>
        <p:blipFill>
          <a:blip r:embed="rId1"/>
          <a:stretch/>
        </p:blipFill>
        <p:spPr>
          <a:xfrm>
            <a:off x="2590920" y="2286000"/>
            <a:ext cx="3878280" cy="411624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>
            <a:off x="4191120" y="1676520"/>
            <a:ext cx="30456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tective W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19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ade #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oggles or G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ction Ligh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stri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ather Gloves &amp; Cover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ather B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100_1605_edited"/>
          <p:cNvPicPr/>
          <p:nvPr/>
        </p:nvPicPr>
        <p:blipFill>
          <a:blip r:embed="rId1"/>
          <a:stretch/>
        </p:blipFill>
        <p:spPr>
          <a:xfrm>
            <a:off x="4267080" y="1523880"/>
            <a:ext cx="2819520" cy="12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00_1603_edited"/>
          <p:cNvPicPr/>
          <p:nvPr/>
        </p:nvPicPr>
        <p:blipFill>
          <a:blip r:embed="rId2"/>
          <a:stretch/>
        </p:blipFill>
        <p:spPr>
          <a:xfrm>
            <a:off x="3581280" y="2971800"/>
            <a:ext cx="1981440" cy="1201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100_1632"/>
          <p:cNvPicPr/>
          <p:nvPr/>
        </p:nvPicPr>
        <p:blipFill>
          <a:blip r:embed="rId3"/>
          <a:stretch/>
        </p:blipFill>
        <p:spPr>
          <a:xfrm>
            <a:off x="5791320" y="3962520"/>
            <a:ext cx="19810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Line 7"/>
          <p:cNvSpPr/>
          <p:nvPr/>
        </p:nvSpPr>
        <p:spPr>
          <a:xfrm>
            <a:off x="2286000" y="22096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2895480" y="34290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895480" y="472428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" descr="J:\2009-06-14-1625-34\100_1681.jpg"/>
          <p:cNvPicPr/>
          <p:nvPr/>
        </p:nvPicPr>
        <p:blipFill>
          <a:blip r:embed="rId4"/>
          <a:stretch/>
        </p:blipFill>
        <p:spPr>
          <a:xfrm>
            <a:off x="3352680" y="5105520"/>
            <a:ext cx="2057400" cy="1541520"/>
          </a:xfrm>
          <a:prstGeom prst="rect">
            <a:avLst/>
          </a:prstGeom>
          <a:ln w="0">
            <a:noFill/>
          </a:ln>
        </p:spPr>
      </p:pic>
      <p:sp>
        <p:nvSpPr>
          <p:cNvPr id="129" name="Line 11"/>
          <p:cNvSpPr/>
          <p:nvPr/>
        </p:nvSpPr>
        <p:spPr>
          <a:xfrm>
            <a:off x="2743200" y="5867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HAN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rch handle is probably the most frequently used item in a welding sh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tting attachments, welding tips and heating nozzles are all connected to the torch hand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ways inspect the torch handle head, valves and hose connections for oil, grease or damaged par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xygen connection is usually marked “OX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etylene connection is usually marked “FUE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100_1595_edited"/>
          <p:cNvPicPr/>
          <p:nvPr/>
        </p:nvPicPr>
        <p:blipFill>
          <a:blip r:embed="rId1"/>
          <a:stretch/>
        </p:blipFill>
        <p:spPr>
          <a:xfrm>
            <a:off x="4419720" y="2362320"/>
            <a:ext cx="44193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RCH HANDLE Iden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rch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rch Bod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xygen Control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Control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100_1595"/>
          <p:cNvPicPr/>
          <p:nvPr/>
        </p:nvPicPr>
        <p:blipFill>
          <a:blip r:embed="rId1"/>
          <a:stretch/>
        </p:blipFill>
        <p:spPr>
          <a:xfrm>
            <a:off x="152280" y="1981080"/>
            <a:ext cx="5029200" cy="3768840"/>
          </a:xfrm>
          <a:prstGeom prst="rect">
            <a:avLst/>
          </a:prstGeom>
          <a:ln w="0">
            <a:noFill/>
          </a:ln>
        </p:spPr>
      </p:pic>
      <p:sp>
        <p:nvSpPr>
          <p:cNvPr id="57" name="Line 5"/>
          <p:cNvSpPr/>
          <p:nvPr/>
        </p:nvSpPr>
        <p:spPr>
          <a:xfrm flipH="1">
            <a:off x="1981080" y="1905120"/>
            <a:ext cx="36576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 flipH="1">
            <a:off x="3123720" y="2666880"/>
            <a:ext cx="251460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 flipH="1" flipV="1">
            <a:off x="4952520" y="4038120"/>
            <a:ext cx="6858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 flipH="1" flipV="1">
            <a:off x="4495320" y="4800240"/>
            <a:ext cx="11430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267080" y="35053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 flipH="1">
            <a:off x="4114440" y="3505320"/>
            <a:ext cx="1522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ELDING NOZZ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100_1598_edited"/>
          <p:cNvPicPr/>
          <p:nvPr/>
        </p:nvPicPr>
        <p:blipFill>
          <a:blip r:embed="rId1"/>
          <a:stretch/>
        </p:blipFill>
        <p:spPr>
          <a:xfrm>
            <a:off x="5867280" y="1905120"/>
            <a:ext cx="2590920" cy="227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100_1600"/>
          <p:cNvPicPr/>
          <p:nvPr/>
        </p:nvPicPr>
        <p:blipFill>
          <a:blip r:embed="rId2"/>
          <a:stretch/>
        </p:blipFill>
        <p:spPr>
          <a:xfrm>
            <a:off x="5943600" y="4572000"/>
            <a:ext cx="2514600" cy="1882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5720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09480" y="1676520"/>
            <a:ext cx="48006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 the cone end, coupling nut, o-rings and welding nozzle for damage, oil or g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he welding nozzle to the torch handle. Tighten the coupling nut hand-tight only.  Wrench tightening may damage o-rings and create a faulty seal allowing lea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- There must always be two o-rings on the cone end of the nozzle.  The absence or damage of either of these o-rings allows premixing and leaks of oxygen and acetyl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648320"/>
            <a:ext cx="1295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>
            <a:off x="5410080" y="4648320"/>
            <a:ext cx="152424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EATING NOZZ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100_1568_edited"/>
          <p:cNvPicPr/>
          <p:nvPr/>
        </p:nvPicPr>
        <p:blipFill>
          <a:blip r:embed="rId1"/>
          <a:stretch/>
        </p:blipFill>
        <p:spPr>
          <a:xfrm>
            <a:off x="2286000" y="1600200"/>
            <a:ext cx="45720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TTING HEAD ATTACH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100_1692_edited"/>
          <p:cNvPicPr/>
          <p:nvPr/>
        </p:nvPicPr>
        <p:blipFill>
          <a:blip r:embed="rId1"/>
          <a:stretch/>
        </p:blipFill>
        <p:spPr>
          <a:xfrm>
            <a:off x="533520" y="3048120"/>
            <a:ext cx="5638680" cy="310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4" name="Text Box 4"/>
          <p:cNvSpPr/>
          <p:nvPr/>
        </p:nvSpPr>
        <p:spPr>
          <a:xfrm>
            <a:off x="2133720" y="266688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utting Oxygen (To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143000" y="2971800"/>
            <a:ext cx="1066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1143000" y="2971800"/>
            <a:ext cx="45720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705720" y="396252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igh-Pressure      Cutting Oxygen L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H="1" flipV="1">
            <a:off x="5791320" y="3504960"/>
            <a:ext cx="9144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H="1">
            <a:off x="6095880" y="4191120"/>
            <a:ext cx="6098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276720" y="609588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e-Heat Oxygen Control Va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1"/>
          <p:cNvSpPr/>
          <p:nvPr/>
        </p:nvSpPr>
        <p:spPr>
          <a:xfrm flipV="1">
            <a:off x="3657600" y="5486040"/>
            <a:ext cx="1522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2"/>
          <p:cNvSpPr/>
          <p:nvPr/>
        </p:nvSpPr>
        <p:spPr>
          <a:xfrm flipV="1">
            <a:off x="3657600" y="4267080"/>
            <a:ext cx="763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895480" y="25909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80880" y="2666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xing Cha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2819520" y="2971800"/>
            <a:ext cx="759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2437920" y="2971800"/>
            <a:ext cx="38124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4572000" y="25909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4572000" y="2666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upling N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 flipH="1">
            <a:off x="4648320" y="2971800"/>
            <a:ext cx="4572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5105520" y="29718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609480" y="60958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e-heat Oxygen            (midd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2"/>
          <p:cNvSpPr/>
          <p:nvPr/>
        </p:nvSpPr>
        <p:spPr>
          <a:xfrm flipV="1">
            <a:off x="1447920" y="4952520"/>
            <a:ext cx="121896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6553080" y="3276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6629400" y="4800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5"/>
          <p:cNvSpPr/>
          <p:nvPr/>
        </p:nvSpPr>
        <p:spPr>
          <a:xfrm flipH="1">
            <a:off x="5866920" y="5029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6"/>
          <p:cNvSpPr/>
          <p:nvPr/>
        </p:nvSpPr>
        <p:spPr>
          <a:xfrm flipH="1">
            <a:off x="617220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1981080" y="632448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676520" y="632448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e-heat Acetylene (bott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9"/>
          <p:cNvSpPr/>
          <p:nvPr/>
        </p:nvSpPr>
        <p:spPr>
          <a:xfrm flipV="1">
            <a:off x="2819520" y="5105520"/>
            <a:ext cx="2286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UTTING T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100_1561_edited"/>
          <p:cNvPicPr/>
          <p:nvPr/>
        </p:nvPicPr>
        <p:blipFill>
          <a:blip r:embed="rId1"/>
          <a:stretch/>
        </p:blipFill>
        <p:spPr>
          <a:xfrm>
            <a:off x="4572000" y="1828800"/>
            <a:ext cx="3657600" cy="3619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04920" y="1981080"/>
            <a:ext cx="4114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heat Orif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xture of Oxygen and Acetylene G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6 surrounding hole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xygen Cutting Jet Ori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 Oxygen (Center Ho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3733920" y="419112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191120" y="2209680"/>
            <a:ext cx="236196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2590560" y="2209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xygen Reg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100_1579_edited"/>
          <p:cNvPicPr/>
          <p:nvPr/>
        </p:nvPicPr>
        <p:blipFill>
          <a:blip r:embed="rId1"/>
          <a:stretch/>
        </p:blipFill>
        <p:spPr>
          <a:xfrm>
            <a:off x="2743200" y="1752480"/>
            <a:ext cx="36622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xygen Regulator- Cylinder Pressure Gaug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 side – closest to cylinder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100_1587_edited"/>
          <p:cNvPicPr/>
          <p:nvPr/>
        </p:nvPicPr>
        <p:blipFill>
          <a:blip r:embed="rId1"/>
          <a:stretch/>
        </p:blipFill>
        <p:spPr>
          <a:xfrm>
            <a:off x="2286000" y="1676520"/>
            <a:ext cx="4330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8:50Z</dcterms:created>
  <dc:creator>The Hirschler's</dc:creator>
  <dc:description/>
  <dc:language>en-US</dc:language>
  <cp:lastModifiedBy>Michael Spiess</cp:lastModifiedBy>
  <dcterms:modified xsi:type="dcterms:W3CDTF">2009-11-06T10:53:48Z</dcterms:modified>
  <cp:revision>1</cp:revision>
  <dc:subject/>
  <dc:title>CHECK VALVES</dc:title>
</cp:coreProperties>
</file>