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E50A-DE04-4820-8A51-D76A67724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38AF-2980-4E7E-B634-F66C8B0A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7A56-435A-4169-B02A-BA9E9AAFF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632-4118-48FA-AF88-8FFBBB14E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003-01ED-4468-BB8B-2C7EF5A04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F5A-1B5D-4BF7-A01C-E19669C5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4A7-ADB9-4EF0-9D9E-797B07D3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D6D-16BE-49A1-B115-B093CFB92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ng the Cyli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EB6E-0E69-4299-B586-E3A2B0D4E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9F33-EA2E-4322-BC0E-0E3B4D088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D9C-98ED-444D-9462-6290914F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BB6-1462-4089-B5D1-9950A61F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006-4C4B-4E7F-BC57-3F44315B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573-8463-4FAA-823C-BCA192F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791-F571-4851-ADAD-EEFAE036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50B-6C2F-4DC3-9B29-7E9E8796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BBD-09DB-4E9C-9EAC-16A253D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54E-DC8F-44A1-A20B-3D0E1FA3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436-A868-41F3-84EF-6A918B3B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781-FEB7-4B26-BA35-78E354C6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C43-0AEC-496D-B1CE-C22DFDE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1EE-2636-4923-AE35-4B8D24E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025-28D8-4E0D-8197-75A92A4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A0B-36DF-4417-A538-67A3889D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3D8-5D88-472A-9303-4726250C8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 Oxy-Fuel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876560"/>
            <a:ext cx="69339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EQUIPMENT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B7.2 – Know how to properly set up, adjust, shut down and maintain an oxy-fue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100_1608_edited"/>
          <p:cNvPicPr/>
          <p:nvPr/>
        </p:nvPicPr>
        <p:blipFill>
          <a:blip r:embed="rId1"/>
          <a:stretch/>
        </p:blipFill>
        <p:spPr>
          <a:xfrm>
            <a:off x="3657600" y="1295280"/>
            <a:ext cx="1724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rning on the Cylinder Val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100_1669_edited"/>
          <p:cNvPicPr/>
          <p:nvPr/>
        </p:nvPicPr>
        <p:blipFill>
          <a:blip r:embed="rId1"/>
          <a:stretch/>
        </p:blipFill>
        <p:spPr>
          <a:xfrm>
            <a:off x="6400800" y="3276720"/>
            <a:ext cx="218916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04920" y="1295280"/>
            <a:ext cx="5638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stand in front or behind a regulator when opening the cylinder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lways stand to the side of the cylinder leaving the cylinder between you and the regul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ertain that the tension on the regulator adjusting screw is released.  Unscrew adjusting screw counter clockwise until tension is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to the side of the cylinder, slowly open the oxygen cylinder valve until the maximum pressure registers on the high pressure gauge.  Then open the oxygen cylinder valve all-the-way to seal the valve p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ame manner, slowly open the acetylene cylinder valve.  But only open the Acetylene valve ¾ - 1 full turn.  Allowing the operator to quickly turn off the fuel in case of emergen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C:\Users\The Hirschler's\Desktop\2009-10-24\100_1891.JPG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Oxygen Regulator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40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671"/>
          <p:cNvPicPr/>
          <p:nvPr/>
        </p:nvPicPr>
        <p:blipFill>
          <a:blip r:embed="rId1"/>
          <a:stretch/>
        </p:blipFill>
        <p:spPr>
          <a:xfrm>
            <a:off x="533520" y="1752480"/>
            <a:ext cx="350496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495680" y="3048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63868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731520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28600" y="4724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100_1579_edited"/>
          <p:cNvPicPr/>
          <p:nvPr/>
        </p:nvPicPr>
        <p:blipFill>
          <a:blip r:embed="rId2"/>
          <a:stretch/>
        </p:blipFill>
        <p:spPr>
          <a:xfrm>
            <a:off x="5334120" y="3733920"/>
            <a:ext cx="2377800" cy="281916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4419720" y="4952880"/>
            <a:ext cx="2057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04920" y="5257800"/>
            <a:ext cx="419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- Fe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 Handed Threads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Markings on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191120" y="541008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971800" y="5867280"/>
            <a:ext cx="17524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2743200" y="6019920"/>
            <a:ext cx="19810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724280" y="6019920"/>
            <a:ext cx="22860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V="1">
            <a:off x="7010280" y="5715000"/>
            <a:ext cx="3812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Slowly Crack the Acetylene Cylinder Valve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Open cylinder valve ¾ - 1 full turn (quick shut-of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100_1672"/>
          <p:cNvPicPr/>
          <p:nvPr/>
        </p:nvPicPr>
        <p:blipFill>
          <a:blip r:embed="rId1"/>
          <a:stretch/>
        </p:blipFill>
        <p:spPr>
          <a:xfrm>
            <a:off x="1523880" y="1638360"/>
            <a:ext cx="63248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Acetylene Regulator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15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100_1675"/>
          <p:cNvPicPr/>
          <p:nvPr/>
        </p:nvPicPr>
        <p:blipFill>
          <a:blip r:embed="rId1"/>
          <a:stretch/>
        </p:blipFill>
        <p:spPr>
          <a:xfrm>
            <a:off x="838080" y="1676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100_1591_edited"/>
          <p:cNvPicPr/>
          <p:nvPr/>
        </p:nvPicPr>
        <p:blipFill>
          <a:blip r:embed="rId2"/>
          <a:stretch/>
        </p:blipFill>
        <p:spPr>
          <a:xfrm>
            <a:off x="5257800" y="3276720"/>
            <a:ext cx="3124080" cy="3035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800600" y="2514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5791320" y="289548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7467480" y="2895480"/>
            <a:ext cx="763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5228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 -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724280" y="5410080"/>
            <a:ext cx="1676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280" y="45720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52280" y="5715000"/>
            <a:ext cx="5029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Left Handed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ches on Nut – Indicate Left Handed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7848720" y="5105520"/>
            <a:ext cx="3045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7391520" y="59436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4952880" y="6019920"/>
            <a:ext cx="2438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038480" y="4800600"/>
            <a:ext cx="3810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4572000" y="617184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Ho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100_1573"/>
          <p:cNvPicPr/>
          <p:nvPr/>
        </p:nvPicPr>
        <p:blipFill>
          <a:blip r:embed="rId1"/>
          <a:stretch/>
        </p:blipFill>
        <p:spPr>
          <a:xfrm>
            <a:off x="6019920" y="914400"/>
            <a:ext cx="289548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28600" y="1143000"/>
            <a:ext cx="563868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Hoses-  Ar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or, have right-handed threads with no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Hoses- Ar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D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lor, have left handed threads, with notched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oses should have the preservative talcum powder blown out before the welding or cutting torch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es are flame retardant, but should still be kept away from open flame, fallen slag, molten metal and spa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CETYLEN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0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100_1584_edited"/>
          <p:cNvPicPr/>
          <p:nvPr/>
        </p:nvPicPr>
        <p:blipFill>
          <a:blip r:embed="rId2"/>
          <a:stretch/>
        </p:blipFill>
        <p:spPr>
          <a:xfrm>
            <a:off x="6705720" y="4952880"/>
            <a:ext cx="11300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100_1682_edited"/>
          <p:cNvPicPr/>
          <p:nvPr/>
        </p:nvPicPr>
        <p:blipFill>
          <a:blip r:embed="rId3"/>
          <a:stretch/>
        </p:blipFill>
        <p:spPr>
          <a:xfrm>
            <a:off x="6705720" y="3352680"/>
            <a:ext cx="114912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Line 7"/>
          <p:cNvSpPr/>
          <p:nvPr/>
        </p:nvSpPr>
        <p:spPr>
          <a:xfrm flipV="1">
            <a:off x="5334120" y="4266720"/>
            <a:ext cx="12952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5029200" y="5486400"/>
            <a:ext cx="1523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UNIT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100_1608_edited"/>
          <p:cNvPicPr/>
          <p:nvPr/>
        </p:nvPicPr>
        <p:blipFill>
          <a:blip r:embed="rId1"/>
          <a:stretch/>
        </p:blipFill>
        <p:spPr>
          <a:xfrm>
            <a:off x="3276720" y="2209680"/>
            <a:ext cx="242244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546880" y="140796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24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5334120" y="24382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486040" y="3124080"/>
            <a:ext cx="7621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 flipH="1" flipV="1">
            <a:off x="4952520" y="3580920"/>
            <a:ext cx="11430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5028840" y="449532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 flipH="1" flipV="1">
            <a:off x="4800240" y="510516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2286000" y="2514240"/>
            <a:ext cx="21337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2438280" y="3504960"/>
            <a:ext cx="16002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2666880" y="4419720"/>
            <a:ext cx="76212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1295280" y="5410080"/>
            <a:ext cx="198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 flipV="1">
            <a:off x="2286000" y="5410080"/>
            <a:ext cx="160020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6320" y="2590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522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H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04920" y="4952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     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6172200" y="2209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62485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7220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72200" y="4648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609588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linder Safety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CURING THE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100_1613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52280" y="1752480"/>
            <a:ext cx="4572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chain or secure cylinders to a cylinder cart, wall or stable work ben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keep cylinders secured properly in a vertical (up-right) 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drop, strike, or apply heat to any part of the cylinder or val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ylinder Protective Cap</a:t>
            </a:r>
            <a:br>
              <a:rPr sz="3200"/>
            </a:b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100_1617_edited"/>
          <p:cNvPicPr/>
          <p:nvPr/>
        </p:nvPicPr>
        <p:blipFill>
          <a:blip r:embed="rId1"/>
          <a:stretch/>
        </p:blipFill>
        <p:spPr>
          <a:xfrm>
            <a:off x="6019920" y="1676520"/>
            <a:ext cx="2906640" cy="3733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14400" y="17524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1219320"/>
            <a:ext cx="5333760" cy="53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keep the protective safety caps in place whenever cylinders are moved or are in storage (full or empt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ylinder cap has two holes on its sides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arger Oval Shaped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cause a cylinder with a broken-off valve to spin instead of taking-off like a missi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maller Circular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make a loud whistling noise if the cylinder valve is broken-off, alerting the operator and others in the shop of da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5181480" y="2742840"/>
            <a:ext cx="2514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5562720" y="3123720"/>
            <a:ext cx="220968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TY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100_1618_edited"/>
          <p:cNvPicPr/>
          <p:nvPr/>
        </p:nvPicPr>
        <p:blipFill>
          <a:blip r:embed="rId1"/>
          <a:stretch/>
        </p:blipFill>
        <p:spPr>
          <a:xfrm>
            <a:off x="4800600" y="1752480"/>
            <a:ext cx="3606840" cy="4630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28600" y="2133720"/>
            <a:ext cx="43434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empty cylinders “EMPTY” or Place a ring around the protective c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lose cylinder valves completely on empty cylin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809880" y="2743200"/>
            <a:ext cx="175284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RACKING THE CYLINDER VAL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092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100_1626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3303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57200" y="1219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0880" y="914400"/>
            <a:ext cx="4572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 NOT stand directly in front of cylinder val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and behind the cylinder valve while cracking and be aware of others in the shop, aiming in a safe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arily open and close the cylinder valve “cracking” - this will blow out any dust, dirt, or debris within the cylinder valve and prevent it from entering the regulator and se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cylinder valve slightly.  If the valve is opened too much the cylinder could tip over from the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cetylene cylinders spray a mist when cracked, let sit for 30 minutes allowing acetone to se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pecting the Cylinder Valve and Reg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connection seat and threads on the cylinder valve are not dama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maged screw thread may ruin the regulator nut, while a poor connection seat will cause the gas to l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inspect the cylinder valves and regulator threads for traces of grease and oil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If oil or grease is fou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 NOT USE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port to instruct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100_1626_edited"/>
          <p:cNvPicPr/>
          <p:nvPr/>
        </p:nvPicPr>
        <p:blipFill>
          <a:blip r:embed="rId1"/>
          <a:stretch/>
        </p:blipFill>
        <p:spPr>
          <a:xfrm>
            <a:off x="5715000" y="2286000"/>
            <a:ext cx="3124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100_1629"/>
          <p:cNvPicPr/>
          <p:nvPr/>
        </p:nvPicPr>
        <p:blipFill>
          <a:blip r:embed="rId1"/>
          <a:stretch/>
        </p:blipFill>
        <p:spPr>
          <a:xfrm>
            <a:off x="4724280" y="228600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38080" y="15238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" y="1295280"/>
            <a:ext cx="42670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oxygen regulator to the oxygen cylinder and the acetylene regulator to the acetylene cyli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xygen connections have right handed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 cylinder valves have  male fittings and the oxygen regulator have fe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cetylene connections have left handed thre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tylene cylinder valves have female fittings and the Acetylene regulator have 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n regulators with a close-fitted wrench (open-end wrench). Do not use jawed tools such as pliers, vice grips or channel locks to tighten regulator n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over tighten regulators to cylinders.  Fittings are made of Brass a soft metal and stripping will likely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regulator has the correct pressure rating for the cylinder being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100_1629"/>
          <p:cNvPicPr/>
          <p:nvPr/>
        </p:nvPicPr>
        <p:blipFill>
          <a:blip r:embed="rId1"/>
          <a:stretch/>
        </p:blipFill>
        <p:spPr>
          <a:xfrm>
            <a:off x="5486400" y="251460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7:47Z</dcterms:created>
  <dc:creator>The Hirschler's</dc:creator>
  <dc:description/>
  <dc:language>en-US</dc:language>
  <cp:lastModifiedBy>Michael Spiess</cp:lastModifiedBy>
  <dcterms:modified xsi:type="dcterms:W3CDTF">2009-11-06T10:53:39Z</dcterms:modified>
  <cp:revision>2</cp:revision>
  <dc:subject/>
  <dc:title>UNIT:  Oxy-Fuel Welding, Brazing, Cutting and Heating</dc:title>
</cp:coreProperties>
</file>