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77D-122F-4189-A7B6-585BAC48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4AA-9C1C-4A8C-9E7F-C32B1CC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254-3E0B-4978-8218-A7AA71A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4EB-119F-4A08-B7A1-938A50D5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6A0-020B-47A2-91AD-265E980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CD6-3759-4E7F-B3C9-40F5A70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8A2-E890-4D9C-A157-E6A1D46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7D5-9A9F-44D8-B59E-EFB1233B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811-5658-4810-9A9E-91A1AC7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5D3-7F59-4B13-998C-BF261A5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2FD-8B8C-40AD-9058-37F454B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E2E-C15F-4013-82BB-5FBCBF3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1EA8-C4ED-4EB7-9621-53F1284C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a cutting tip selection chart for correct cutting tip, regulator pressures, and travel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Go to fullsize image"/>
          <p:cNvPicPr/>
          <p:nvPr/>
        </p:nvPicPr>
        <p:blipFill>
          <a:blip r:embed="rId1"/>
          <a:stretch/>
        </p:blipFill>
        <p:spPr>
          <a:xfrm>
            <a:off x="1905120" y="2438280"/>
            <a:ext cx="1430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on the welding torch all th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oxygen regulator to the desired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40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838080" y="27432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fuel (Acetylene) regulator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15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the fuel valve on the torch handle approximately one-half turn and ignite the gas with a friction lighter (striker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NOTE- Wear protective goggles or glasses   (Shade #5) to shield the eyes from the bright light of the flame and leather gloves from potential burns when lighting the torc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956.JPG"/>
          <p:cNvPicPr/>
          <p:nvPr/>
        </p:nvPicPr>
        <p:blipFill>
          <a:blip r:embed="rId1"/>
          <a:stretch/>
        </p:blipFill>
        <p:spPr>
          <a:xfrm>
            <a:off x="2362320" y="1905120"/>
            <a:ext cx="211140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:\2009-06-14-1625-34\100_1605_edited.jpg"/>
          <p:cNvPicPr/>
          <p:nvPr/>
        </p:nvPicPr>
        <p:blipFill>
          <a:blip r:embed="rId2"/>
          <a:stretch/>
        </p:blipFill>
        <p:spPr>
          <a:xfrm>
            <a:off x="685800" y="4876920"/>
            <a:ext cx="3200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The Hirschler's\Desktop\2009-10-24\100_1955.JPG"/>
          <p:cNvPicPr/>
          <p:nvPr/>
        </p:nvPicPr>
        <p:blipFill>
          <a:blip r:embed="rId3"/>
          <a:stretch/>
        </p:blipFill>
        <p:spPr>
          <a:xfrm>
            <a:off x="152280" y="1905120"/>
            <a:ext cx="211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increase the fuel supply at the torch handle until the flame clears the end of the tip about 1/8”, then reduce the supply slightly to return the flame to the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:\Users\The Hirschler's\Desktop\2009-10-24\100_1958.JPG"/>
          <p:cNvPicPr/>
          <p:nvPr/>
        </p:nvPicPr>
        <p:blipFill>
          <a:blip r:embed="rId1"/>
          <a:stretch/>
        </p:blipFill>
        <p:spPr>
          <a:xfrm>
            <a:off x="5011560" y="198108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ly open the preheat oxygen control valve on the cutting attachment until the preheat flames establish a sharp inner cone (neutral fla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Users\The Hirschler's\Desktop\2009-10-24\100_1963.JPG"/>
          <p:cNvPicPr/>
          <p:nvPr/>
        </p:nvPicPr>
        <p:blipFill>
          <a:blip r:embed="rId1"/>
          <a:stretch/>
        </p:blipFill>
        <p:spPr>
          <a:xfrm>
            <a:off x="609480" y="2438280"/>
            <a:ext cx="3962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5:00Z</dcterms:created>
  <dc:creator>The Hirschler's</dc:creator>
  <dc:description/>
  <dc:language>en-US</dc:language>
  <cp:lastModifiedBy>Michael Spiess</cp:lastModifiedBy>
  <dcterms:modified xsi:type="dcterms:W3CDTF">2009-11-06T10:51:55Z</dcterms:modified>
  <cp:revision>2</cp:revision>
  <dc:subject/>
  <dc:title>Cutting Tip Chart</dc:title>
</cp:coreProperties>
</file>