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BD4-AAEC-42B6-AA0D-52DA657F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547-F89C-4820-90FE-9D70D917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B40-3F07-4154-8EBD-A6D0F2E7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253-D44A-4B51-BC60-379666F3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54C-51A3-4D00-9738-B053BAE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0B9-6C7B-47F2-A9EC-EE343CDE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2B9-6234-4758-8106-0AD3000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FE0-0A91-4D23-93DB-8E1B50E5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7CA-79DF-461F-9C3A-0C0AD3B9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D8F-F211-4FE4-909E-08211894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C42-83DC-40BA-B87B-ADAA1C4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091-E3C3-4619-B9C7-29595A45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03F4-91B3-4EDC-8042-8185E8FFA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- if the preheat flame changes slightly to a carburizing flame, continue to depress the cutting oxygen lever and increase the preheat oxygen at the cutting attachment until the preheat flames are neutral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64.JPG"/>
          <p:cNvPicPr/>
          <p:nvPr/>
        </p:nvPicPr>
        <p:blipFill>
          <a:blip r:embed="rId1"/>
          <a:stretch/>
        </p:blipFill>
        <p:spPr>
          <a:xfrm>
            <a:off x="457200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ORTANT: Check where molten metal and sparks will fa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ve fire extinguishers available, remove flammable substances, and check where the oxy-fuel hoses are located before starting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tective leather boots and gloves should be worn while torch cu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986.JPG"/>
          <p:cNvPicPr/>
          <p:nvPr/>
        </p:nvPicPr>
        <p:blipFill>
          <a:blip r:embed="rId1"/>
          <a:stretch/>
        </p:blipFill>
        <p:spPr>
          <a:xfrm>
            <a:off x="838080" y="2057400"/>
            <a:ext cx="3124440" cy="23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J:\2009-06-14-1625-34\100_1681.jpg"/>
          <p:cNvPicPr/>
          <p:nvPr/>
        </p:nvPicPr>
        <p:blipFill>
          <a:blip r:embed="rId2"/>
          <a:stretch/>
        </p:blipFill>
        <p:spPr>
          <a:xfrm>
            <a:off x="838080" y="51814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The Hirschler's\Desktop\2009-10-24\100_2007.JPG"/>
          <p:cNvPicPr/>
          <p:nvPr/>
        </p:nvPicPr>
        <p:blipFill>
          <a:blip r:embed="rId3"/>
          <a:stretch/>
        </p:blipFill>
        <p:spPr>
          <a:xfrm>
            <a:off x="2438280" y="5181480"/>
            <a:ext cx="15242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:\Users\The Hirschler's\Desktop\2009-10-24\100_1965.JPG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The Hirschler's\Desktop\2009-10-24\100_1966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the cutting attachment or torch comfortably in both hands so one hand stabilizes the cutting tip preheat flames approximately 1/8” from the base metal and the other hand is free to 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Users\The Hirschler's\Desktop\2009-10-24\100_1968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he preheat flame on the spot where the cut is to be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cutting action can start, the base metal must be preheated to a bright cherry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d spot appears, depress the cutting oxygen lever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Users\The Hirschler's\Desktop\2009-10-24\100_1969.JPG"/>
          <p:cNvPicPr/>
          <p:nvPr/>
        </p:nvPicPr>
        <p:blipFill>
          <a:blip r:embed="rId1"/>
          <a:stretch/>
        </p:blipFill>
        <p:spPr>
          <a:xfrm>
            <a:off x="1143000" y="4114800"/>
            <a:ext cx="2819520" cy="211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The Hirschler's\Desktop\2009-10-24\100_1974.JPG"/>
          <p:cNvPicPr/>
          <p:nvPr/>
        </p:nvPicPr>
        <p:blipFill>
          <a:blip r:embed="rId2"/>
          <a:stretch/>
        </p:blipFill>
        <p:spPr>
          <a:xfrm>
            <a:off x="1143000" y="1924200"/>
            <a:ext cx="2819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ut has started, move the torch in the direction you wish to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moving too slowly will allow the cut or kerf to fuse together, and moving too fast will not allow the metal to be preheated and the cut will be 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Users\The Hirschler's\Desktop\2009-10-24\100_1970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depress the cutting oxygen lever past the final edge of the base metal for a good “drop cu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The Hirschler's\Desktop\2009-10-24\100_1971.JPG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The Hirschler's\Desktop\2009-10-24\100_1973.JPG"/>
          <p:cNvPicPr/>
          <p:nvPr/>
        </p:nvPicPr>
        <p:blipFill>
          <a:blip r:embed="rId2"/>
          <a:stretch/>
        </p:blipFill>
        <p:spPr>
          <a:xfrm>
            <a:off x="914400" y="426708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mmended Procedure for Flame Cutting of Thick Steel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C:\Users\The Hirschler's\Pictures\torch book pic.jpg"/>
          <p:cNvPicPr/>
          <p:nvPr/>
        </p:nvPicPr>
        <p:blipFill>
          <a:blip r:embed="rId1"/>
          <a:stretch/>
        </p:blipFill>
        <p:spPr>
          <a:xfrm>
            <a:off x="5486400" y="838080"/>
            <a:ext cx="3548160" cy="586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28600" y="717480"/>
            <a:ext cx="51814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to preheat; point tip at angle on edge of pl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flame back to upright position – keep the dark inner blue flame 1/8” from me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 oxy valve slowly; as cut starts, rotate tip backward sligh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rotate to upright position without moving tip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tip more - so tip points slightly in direction of c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 as fast as good cutting action will perm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jerk; maintain slight leading angle toward cut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down; let cutting stream sever corner edge at bot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 steady forward motion until tip has cleared 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1814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410080" y="685800"/>
            <a:ext cx="0" cy="617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erce metal, again hold the cutting attachment or torch comfortably in both hands with one hand stabilizing the cutting tip preheat flames approximately 1/8” from the base metal while the other hand is free to 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Users\The Hirschler's\Desktop\2009-10-24\100_1977.JPG"/>
          <p:cNvPicPr/>
          <p:nvPr/>
        </p:nvPicPr>
        <p:blipFill>
          <a:blip r:embed="rId1"/>
          <a:stretch/>
        </p:blipFill>
        <p:spPr>
          <a:xfrm>
            <a:off x="5257800" y="2133720"/>
            <a:ext cx="2743200" cy="205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The Hirschler's\Desktop\2009-10-24\100_1979.JPG"/>
          <p:cNvPicPr/>
          <p:nvPr/>
        </p:nvPicPr>
        <p:blipFill>
          <a:blip r:embed="rId2"/>
          <a:stretch/>
        </p:blipFill>
        <p:spPr>
          <a:xfrm>
            <a:off x="5257800" y="4267080"/>
            <a:ext cx="27432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41:23Z</dcterms:created>
  <dc:creator>The Hirschler's</dc:creator>
  <dc:description/>
  <dc:language>en-US</dc:language>
  <cp:lastModifiedBy>Michael Spiess</cp:lastModifiedBy>
  <dcterms:modified xsi:type="dcterms:W3CDTF">2009-11-06T10:52:10Z</dcterms:modified>
  <cp:revision>1</cp:revision>
  <dc:subject/>
  <dc:title>Lighting the Torch Cont.</dc:title>
</cp:coreProperties>
</file>