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C2E-BC8B-4603-9472-7EF66887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3C6-060B-47B0-AF5B-2B0CF480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31A-5895-4DDF-B3C1-E1ED5206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C50-571B-46E3-9DA8-EB0102FD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CD5-D388-40E3-9FD0-CF98C838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1FF-1B86-4B26-85FB-7AD47288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13C-009C-4E70-B693-321AEF4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3A0-C4D5-45FA-8E2C-F80BAE0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E59-069C-4EC9-8DA0-5C2FBBD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ADC-B266-49F4-A660-392DF0C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DD1-EBBE-4186-B2F5-854A2A1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121-79D0-4796-8035-860C5D7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DD9-CE49-4C4D-9DA0-802FF4F33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I9l0OxKRSYAszyJzbkF;_ylu=X3oDMTBqZDBmZGhuBHBvcwM4MgRzZWMDc3IEdnRpZAM-/SIG=1i8k8d5qt/EXP=1257120229/**http%3A//images.search.yahoo.com/images/view%3Fback=http%253A%252F%252Fimages.search.yahoo.com%252Fsearch%252Fimages%253Fp%253Dcutting%252Btips%2526b%253D64%2526ni%253D21%2526ei%253DUTF-8%2526pstart%253D1%2526fr%253Dyfp-t-701%26w=143%26h=125%26imgurl=www.gopherindustrial.com%252Fgas_apparatus%252Fimages%252Fcutting_tips.jpg%26rurl=http%253A%252F%252Fwww.gopherindustrial.com%252Fgas_apparatus%26size=3k%26name=cutting%2Btips%2Bjpg%26p=cutting%2Btips%26oid=6e6db8d98872aa80%26fr2=%26no=82%26tt=23516%26b=64%26ni=21%26sigr=11dp28ltf%26sigi=11urjeujq%26sigb=135rmclop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p2Ju1Kw4UAsa2JzbkF;_ylu=X3oDMTBpc2ozM2gzBHBvcwM0BHNlYwNzcgR2dGlkAw--/SIG=1idsuphll/EXP=1257142262/**http%3A//images.search.yahoo.com/images/view%3Fback=http%253A%252F%252Fimages.search.yahoo.com%252Fsearch%252Fimages%253Fp%253Dtorch%252Bcutting%252Btips%2526sado%253D1%2526ei%253Dutf-8%2526fr%253Dyfp-t-701%2526fr2%253Dsg-gac%26w=350%26h=402%26imgurl=www.koike.com%252FImg%252FPost%252Ftorch%252520web.jpg%26rurl=http%253A%252F%252Fwww.koike.com%252FMachines%252FSeriesList.aspx%253FConfigurationID%253D79%26size=15k%26name=torch%2Bweb%2Bjpg%26p=torch%2Bcutting%2Btips%26oid=cdf5e57c22e2b558%26fr2=sg-gac%26no=4%26tt=176%26sigr=120alnukc%26sigi=1163ll44s%26sigb=139o1f67h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_1j.xKd3oAXvqJzbkF;_ylu=X3oDMTBqYWdlNjBlBHBvcwMxOARzZWMDc3IEdnRpZAM-/SIG=1ivueda5b/EXP=1257103733/**http%3A//images.search.yahoo.com/images/view%3Fback=http%253A%252F%252Fimages.search.yahoo.com%252Fsearch%252Fimages%253Fp%253Dcutting%252Bstructural%252Bsteel%252Bbeams%2526ei%253Dutf-8%2526y%253DSearch%2526fr%253Dyfp-t-701%26w=440%26h=330%26imgurl=vtsolar.arch.vt.edu%252Fimages%252Fprogress%252Fchassis%252Ftourch.jpg%26rurl=http%253A%252F%252Fvtsolar.arch.vt.edu%252Fprogress%252F2005%252F02%252F26%252Fcutting_steel%26size=12k%26name=tourch%2Bjpg%26p=cutting%2Bstructural%2Bsteel%2Bbeams%26oid=50e2ce4cba3e8466%26fr2=%26no=18%26tt=38%26sigr=11spdg6qb%26sigi=11msitav4%26sigb=13cul323i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9G_bHJHkOxKpiQA6kOJzbkF;_ylu=X3oDMTBpZTByOGFiBHBvcwMyBHNlYwNzcgR2dGlkAw--/SIG=1gspgo9sa/EXP=1257103815/**http%3A//images.search.yahoo.com/images/view%3Fback=http%253A%252F%252Fimages.search.yahoo.com%252Fsearch%252Fimages%253Fp%253Dferrous%252Bmetals%2526sado%253D1%2526ei%253Dutf-8%2526fr%253Dyfp-t-701%2526fr2%253Dsg-gac%26w=150%26h=119%26imgurl=www.indiamart.com%252Fspecial-metals%252Fgifs%252Fsteel2.jpg%26rurl=http%253A%252F%252Fwww.indiamart.com%252Fspecial-metals%26size=5k%26name=steel2%2Bjpg%26p=ferrous%2Bmetals%26oid=1af8e4ef71dd1bd4%26fr2=sg-gac%26no=2%26tt=23620%26sigr=1176icaaj%26sigi=11gb8l8i8%26sigb=135aoe8d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ds.yahoo.com/_ylt=A9G_bDn7kexKtgMABamJzbkF;_ylu=X3oDMTBrNm1xczJtBHBvcwM4MDAEc2VjA3NyBHZ0aWQD/SIG=1iiem0e80/EXP=1257104251/**http%3A//images.search.yahoo.com/images/view%3Fback=http%253A%252F%252Fimages.search.yahoo.com%252Fsearch%252Fimages%253Fp%253DCast%252Biron%2526b%253D799%2526ni%253D21%2526ei%253Dutf-8%2526y%253DSearch%2526pstart%253D1%2526fr%253Dyfp-t-701%26w=456%26h=342%26imgurl=unofficialcook.com%252Fwp-content%252Fuploads%252F2006%252F02%252FCastIron1.JPG%26rurl=http%253A%252F%252Funofficialcook.com%252F%253Fp%253D52%26size=21k%26name=CastIron1%2BJPG%26p=Cast%2Biron%26oid=ec2fc2652db3873c%26fr2=%26no=800%26tt=656006%26b=799%26ni=21%26sigr=10vrvfiqm%26sigi=11rcdudj4%26sigb=13crpu82q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ds.yahoo.com/_ylt=A9G_bF8ik.xKN4QANh2JzbkF;_ylu=X3oDMTBpc2ozM2gzBHBvcwM0BHNlYwNzcgR2dGlkAw--/SIG=1h5n52gbc/EXP=1257104546/**http%3A//images.search.yahoo.com/images/view%3Fback=http%253A%252F%252Fimages.search.yahoo.com%252Fsearch%252Fimages%253Fp%253DStainless%252Bsteel%2526ei%253Dutf-8%2526fr%253Dyfp-t-701%26w=360%26h=360%26imgurl=www.fsgoldensteel.com%252Fimages%252Fpro%252FStainless-Steel-Coils-Sheeet-WL-101-.jpg%26rurl=http%253A%252F%252Fwww.fsgoldensteel.com%252Fpro%252FCoils.html%26size=28k%26name=Stainless%2BSteel%2B...%26p=Stainless%2Bsteel%26oid=ba306eb39c89993c%26fr2=%26no=4%26tt=3555488%26sigr=11blguosc%26sigi=129accsrb%26sigb=12k5bdnlq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4097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Fuel Torch Cutting (O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1 – Understand the role of heat and oxidation in the cutt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3 – Know how to flame-cut metal with an oxy-fuel cutting t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1981080" y="1523880"/>
            <a:ext cx="49532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tting Started- Inspect th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cone end, coupling nut, and torch head for dirt, dust, oil, grease, or damaged parts. Dirt and dust can be removed with a clean cl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UTION: If oil, grease or damaged parts are detected, DO NOT USE! Report it to the instructor immediate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866920" y="3047760"/>
            <a:ext cx="838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J:\2009-06-14-1625-34\100_1692.jpg"/>
          <p:cNvPicPr/>
          <p:nvPr/>
        </p:nvPicPr>
        <p:blipFill>
          <a:blip r:embed="rId1"/>
          <a:stretch/>
        </p:blipFill>
        <p:spPr>
          <a:xfrm>
            <a:off x="4724280" y="25146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“O”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 the cutting attachment cone end for missing or damaged “O” rings.  Damaged or missing “O” rings can allow gases to mix and will cause backfires or backfl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:\2009-06-14-1625-34\100_1600_edited.jpg"/>
          <p:cNvPicPr/>
          <p:nvPr/>
        </p:nvPicPr>
        <p:blipFill>
          <a:blip r:embed="rId1"/>
          <a:stretch/>
        </p:blipFill>
        <p:spPr>
          <a:xfrm>
            <a:off x="4648320" y="218268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Cutting T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torch head.  The tapered seating surfaces must be in good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nts, burns or burned seats are present, the seat must be resurf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orch is used with a bad seat, backfire or backflash may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:\2009-06-14-1625-34\100_1561_edited.jpg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tting up the Cutting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he cutting attachment to the welding torch handle and tighten the coupling nut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hand pressur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ench tightening may damage “O” rings and create a faulty s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:\2009-06-14-1625-34\100_1692.jpg"/>
          <p:cNvPicPr/>
          <p:nvPr/>
        </p:nvPicPr>
        <p:blipFill>
          <a:blip r:embed="rId1"/>
          <a:stretch/>
        </p:blipFill>
        <p:spPr>
          <a:xfrm>
            <a:off x="5181480" y="2133720"/>
            <a:ext cx="3124440" cy="23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410080" y="1752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ND TIGH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781680" y="21337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781680" y="21337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7619760" y="2895480"/>
            <a:ext cx="75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J:\2009-06-14-1625-34\100_1595_edited.jpg"/>
          <p:cNvPicPr/>
          <p:nvPr/>
        </p:nvPicPr>
        <p:blipFill>
          <a:blip r:embed="rId2"/>
          <a:stretch/>
        </p:blipFill>
        <p:spPr>
          <a:xfrm>
            <a:off x="5181480" y="4724280"/>
            <a:ext cx="3124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p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required size and type of cutting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52480"/>
            <a:ext cx="2743200" cy="239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Go to fullsize image"/>
          <p:cNvPicPr/>
          <p:nvPr/>
        </p:nvPicPr>
        <p:blipFill>
          <a:blip r:embed="rId3"/>
          <a:stretch/>
        </p:blipFill>
        <p:spPr>
          <a:xfrm>
            <a:off x="1295280" y="4354560"/>
            <a:ext cx="2362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tip in the cutting attachment head and tighten securely with an open-end wren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:\2009-06-14-1625-34\100_1693.jpg"/>
          <p:cNvPicPr/>
          <p:nvPr/>
        </p:nvPicPr>
        <p:blipFill>
          <a:blip r:embed="rId1"/>
          <a:stretch/>
        </p:blipFill>
        <p:spPr>
          <a:xfrm>
            <a:off x="4419720" y="3124080"/>
            <a:ext cx="4267080" cy="3197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962520" y="525780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029200" y="2209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ench Tight Connecting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867280" y="25909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477120" y="2590920"/>
            <a:ext cx="15228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tting Equipment versus Welding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equipment is used throughout the metal-working world for cutting steel and ferrous (iron-based)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ipment is basically the same for both oxy-fuel gas cutting and oxy-fuel gas welding, except for the to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ting torch is a unique and invaluable tool that enables the operator to cut almost any thickness of steel to the required size an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6400800" y="1447920"/>
            <a:ext cx="138600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92.jpg"/>
          <p:cNvPicPr/>
          <p:nvPr/>
        </p:nvPicPr>
        <p:blipFill>
          <a:blip r:embed="rId2"/>
          <a:stretch/>
        </p:blipFill>
        <p:spPr>
          <a:xfrm>
            <a:off x="5943600" y="4419720"/>
            <a:ext cx="24382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-Fuel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53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is also referred to as flame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a process of cutting steel by removing material to form a slot, called the k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al is actually removed from the kerf by burning i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one of the fastest and most efficient methods for cutting thick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752480"/>
            <a:ext cx="190980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The Hirschler's\Desktop\2009-10-24\100_1970.JPG"/>
          <p:cNvPicPr/>
          <p:nvPr/>
        </p:nvPicPr>
        <p:blipFill>
          <a:blip r:embed="rId3"/>
          <a:stretch/>
        </p:blipFill>
        <p:spPr>
          <a:xfrm>
            <a:off x="609480" y="434340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how metal can be cut quickly with a flame, you must first understand how burning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essential elements are needed for burning: Fuel, Oxygen, and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an be any material that will chemically combine with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teel to be cut is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447920"/>
            <a:ext cx="274320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 flipV="1">
            <a:off x="701028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Users\The Hirschler's\Desktop\2009-10-24\100_1995.JPG"/>
          <p:cNvPicPr/>
          <p:nvPr/>
        </p:nvPicPr>
        <p:blipFill>
          <a:blip r:embed="rId3"/>
          <a:stretch/>
        </p:blipFill>
        <p:spPr>
          <a:xfrm>
            <a:off x="6019920" y="4876920"/>
            <a:ext cx="20574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, a large quantity of pure oxygen is needed to combine with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oxygen present, and the greater the oxygen’s force, the faster burning will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flame cutting requires a jet stream of pure oxygen directed onto th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:\2009-06-14-1625-34\100_1614.jpg"/>
          <p:cNvPicPr/>
          <p:nvPr/>
        </p:nvPicPr>
        <p:blipFill>
          <a:blip r:embed="rId1"/>
          <a:stretch/>
        </p:blipFill>
        <p:spPr>
          <a:xfrm>
            <a:off x="762120" y="43434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523880"/>
            <a:ext cx="2743200" cy="2511720"/>
          </a:xfrm>
          <a:prstGeom prst="rect">
            <a:avLst/>
          </a:prstGeom>
          <a:ln w="0">
            <a:noFill/>
          </a:ln>
        </p:spPr>
      </p:pic>
      <p:sp>
        <p:nvSpPr>
          <p:cNvPr id="61" name="Line 6"/>
          <p:cNvSpPr/>
          <p:nvPr/>
        </p:nvSpPr>
        <p:spPr>
          <a:xfrm>
            <a:off x="609480" y="23623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, heat is needed to raise the temperature of the steel until it reaches its ignition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ition temperature is the temperature at which the material will burn when oxyge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gnition or kindling temperature of steel is 1500 degrees Fahrenhe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emperature, steel turns cherry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ream of oxygen is directed onto the hot 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eel burns rapidly, and a slot is cut through the entire pie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xygen and hot steel are actually combining to form a chemical reaction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xi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6629400" y="4343400"/>
            <a:ext cx="220968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09232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H="1">
            <a:off x="8229240" y="24382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 – How it work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xy-Fuel cutting process is accomplished by bringing the base metal to a molten state, then introducing a high-pressure stream of cutting oxy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14840" y="3809520"/>
            <a:ext cx="304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- How it Works? 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ignite and burn the metal as well as carry away the slag or oxidized resi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cutting can be applied to plain carbon steels, low-alloy steels and other ferrous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ferrous metals, stainless steels and cast iron are not usually cut using oxy-fuel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514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514600"/>
            <a:ext cx="1428480" cy="113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52578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4120" y="52578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4724280" y="1752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H="1">
            <a:off x="6172200" y="21337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6705720" y="2133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18148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-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6095880" y="4724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629400" y="4724280"/>
            <a:ext cx="838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 of Torch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eople use the oxy-fuel cutting torch than any other welding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tting torch is used by workers in virtually all areas including manufacturing, maintenance, automotive repair, railroad, farming, and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nfortunately one of the most commonly misus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workers know how to light the torch and make a cut, but their cuts are very poor quality and often unsa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oxy-fuel cut should not only be straight and square, but it should require little or no post-cut clean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ssive post-cutting cleanup results in extra cost, which is an expense that cannot be just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:\Users\The Hirschler's\Desktop\2009-10-24\100_1973.JPG"/>
          <p:cNvPicPr/>
          <p:nvPr/>
        </p:nvPicPr>
        <p:blipFill>
          <a:blip r:embed="rId1"/>
          <a:stretch/>
        </p:blipFill>
        <p:spPr>
          <a:xfrm>
            <a:off x="6400800" y="1752480"/>
            <a:ext cx="2438280" cy="182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The Hirschler's\Desktop\2009-10-24\100_2003.JPG"/>
          <p:cNvPicPr/>
          <p:nvPr/>
        </p:nvPicPr>
        <p:blipFill>
          <a:blip r:embed="rId2"/>
          <a:stretch/>
        </p:blipFill>
        <p:spPr>
          <a:xfrm>
            <a:off x="6400800" y="4038480"/>
            <a:ext cx="2438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3:36Z</dcterms:created>
  <dc:creator>The Hirschler's</dc:creator>
  <dc:description/>
  <dc:language>en-US</dc:language>
  <cp:lastModifiedBy>Michael Spiess</cp:lastModifiedBy>
  <dcterms:modified xsi:type="dcterms:W3CDTF">2009-11-06T10:51:43Z</dcterms:modified>
  <cp:revision>1</cp:revision>
  <dc:subject/>
  <dc:title>UNIT: Oxy-Acetylene; Welding, Brazing, Cutting and Heating</dc:title>
</cp:coreProperties>
</file>