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1F04-A480-42D0-830A-7AF14C031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0B67-8785-4082-9379-DA5980A54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84B2-FD62-4941-901A-CC7D82CBE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41C3-BFBF-402B-8282-C8EFEC4B6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B661-5E20-49FD-BD9C-0C1FCD1D0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2584-91C5-42C5-88FF-5781CD1CE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01F6-8089-41CF-A27F-8F445C209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162A-A94C-4D0D-9E66-528717C88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C25E-86BC-4BE8-9860-80E80EA39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6848-6863-42CB-AA3F-A10809365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7803-A9C8-4E5E-A882-147FE77A8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8D3A-2D40-444E-ACBA-5BEB00D1E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B341B-3C27-4F82-B97C-13611B732A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Shutting Down the Cutting Outf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fter the cutting operation is finished, or whenever the cutting torch operator must leave the work area, the oxy-acetylene cutting outfit must be shut dow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4" descr="C:\Users\The Hirschler's\Desktop\2009-10-24\100_2008.JPG"/>
          <p:cNvPicPr/>
          <p:nvPr/>
        </p:nvPicPr>
        <p:blipFill>
          <a:blip r:embed="rId1"/>
          <a:stretch/>
        </p:blipFill>
        <p:spPr>
          <a:xfrm>
            <a:off x="4648320" y="2611440"/>
            <a:ext cx="3809880" cy="28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Shutting Down the Cutting Outfit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tep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47960" y="2438280"/>
            <a:ext cx="38098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llow these procedures for shutting down the equipm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urn off the acetylene torch val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4" descr="C:\Users\The Hirschler's\Desktop\2009-10-24\100_1885.JPG"/>
          <p:cNvPicPr/>
          <p:nvPr/>
        </p:nvPicPr>
        <p:blipFill>
          <a:blip r:embed="rId1"/>
          <a:stretch/>
        </p:blipFill>
        <p:spPr>
          <a:xfrm>
            <a:off x="685800" y="2611440"/>
            <a:ext cx="3809880" cy="28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Shutting Down the Cutting Outfit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tep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3352680"/>
            <a:ext cx="38098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urn off the oxygen torch val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4" descr="C:\Users\The Hirschler's\Desktop\2009-10-24\100_1964.JPG"/>
          <p:cNvPicPr/>
          <p:nvPr/>
        </p:nvPicPr>
        <p:blipFill>
          <a:blip r:embed="rId1"/>
          <a:stretch/>
        </p:blipFill>
        <p:spPr>
          <a:xfrm>
            <a:off x="4648320" y="2611440"/>
            <a:ext cx="3809880" cy="28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Shutting Down the Cutting Outfit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tep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7960" y="3429000"/>
            <a:ext cx="380988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urn off the Acetylene cylinder val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4" descr="C:\Users\The Hirschler's\Desktop\2009-10-24\100_1895.JPG"/>
          <p:cNvPicPr/>
          <p:nvPr/>
        </p:nvPicPr>
        <p:blipFill>
          <a:blip r:embed="rId1"/>
          <a:stretch/>
        </p:blipFill>
        <p:spPr>
          <a:xfrm>
            <a:off x="685800" y="2590920"/>
            <a:ext cx="3809880" cy="28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Shutting Down the Cutting Outfit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tep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3200040"/>
            <a:ext cx="38098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urn off the Oxygen cylinder val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4" descr="C:\Users\The Hirschler's\Desktop\2009-10-24\100_1896.JPG"/>
          <p:cNvPicPr/>
          <p:nvPr/>
        </p:nvPicPr>
        <p:blipFill>
          <a:blip r:embed="rId1"/>
          <a:stretch/>
        </p:blipFill>
        <p:spPr>
          <a:xfrm>
            <a:off x="4648320" y="2611440"/>
            <a:ext cx="3809880" cy="28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419720" y="2514600"/>
            <a:ext cx="403848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open the acetylene torch valve and depress the oxygen cutting lever to release or bleed any gas still remaining in the ho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the regulators read zero - shut off the acetylene torch val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Shutting Down the Cutting Outfit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teps 5 &amp; 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4" descr="C:\Users\The Hirschler's\Desktop\2009-10-24\100_1955.JPG"/>
          <p:cNvPicPr/>
          <p:nvPr/>
        </p:nvPicPr>
        <p:blipFill>
          <a:blip r:embed="rId1"/>
          <a:stretch/>
        </p:blipFill>
        <p:spPr>
          <a:xfrm>
            <a:off x="1447920" y="1752480"/>
            <a:ext cx="1884240" cy="25146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C:\Users\The Hirschler's\Desktop\2009-10-24\100_2007.JPG"/>
          <p:cNvPicPr/>
          <p:nvPr/>
        </p:nvPicPr>
        <p:blipFill>
          <a:blip r:embed="rId2"/>
          <a:stretch/>
        </p:blipFill>
        <p:spPr>
          <a:xfrm>
            <a:off x="1143000" y="4495680"/>
            <a:ext cx="2590920" cy="19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685440" y="2971800"/>
            <a:ext cx="380988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urn the oxygen and acetylene regulator adjusting screws counterclockwise until no tension remains (loose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Shutting Down the Cutting Outfit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tep 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4" descr="C:\Users\The Hirschler's\Desktop\2009-10-24\100_1891.JPG"/>
          <p:cNvPicPr/>
          <p:nvPr/>
        </p:nvPicPr>
        <p:blipFill>
          <a:blip r:embed="rId1"/>
          <a:stretch/>
        </p:blipFill>
        <p:spPr>
          <a:xfrm>
            <a:off x="4952880" y="2209680"/>
            <a:ext cx="2590920" cy="19414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C:\Users\The Hirschler's\Desktop\2009-10-24\100_1892.JPG"/>
          <p:cNvPicPr/>
          <p:nvPr/>
        </p:nvPicPr>
        <p:blipFill>
          <a:blip r:embed="rId2"/>
          <a:stretch/>
        </p:blipFill>
        <p:spPr>
          <a:xfrm>
            <a:off x="4952880" y="4343400"/>
            <a:ext cx="2590920" cy="19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647960" y="3048120"/>
            <a:ext cx="380988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wrap the Oxy-acetylene hoses on the outfit for proper clean-up and shop organiz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Shutting Down the Cutting Outfit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tep 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4" descr="C:\Users\The Hirschler's\Desktop\2009-10-24\100_1915.JPG"/>
          <p:cNvPicPr/>
          <p:nvPr/>
        </p:nvPicPr>
        <p:blipFill>
          <a:blip r:embed="rId1"/>
          <a:stretch/>
        </p:blipFill>
        <p:spPr>
          <a:xfrm>
            <a:off x="1066680" y="2133720"/>
            <a:ext cx="30830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3T15:26:06Z</dcterms:created>
  <dc:creator>The Hirschler's</dc:creator>
  <dc:description/>
  <dc:language>en-US</dc:language>
  <cp:lastModifiedBy>Michael Spiess</cp:lastModifiedBy>
  <dcterms:modified xsi:type="dcterms:W3CDTF">2009-11-06T10:52:31Z</dcterms:modified>
  <cp:revision>2</cp:revision>
  <dc:subject/>
  <dc:title>Torch Cutting Procedure  Piercing a Hole  Cont.</dc:title>
</cp:coreProperties>
</file>