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EFF-AA63-4181-B898-BCBD7214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EF3-E29E-4521-83BD-DA69CEB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481-E826-4803-8622-EC43E597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C7E-5DC9-450E-A677-D12682B0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879-3F56-4EC6-8554-24A74AD9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55F-6991-4226-85E0-8FC58016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5D8-A7E8-49C5-9F70-FCC4E17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583-AAC3-4282-81FA-33BFCD30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75E-D609-4A7A-8C05-AC5254E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D45-CD0A-4AB5-92AF-08552F1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A61-09E9-48CB-8AD1-E42F6D64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CA9-D3F2-4F6C-A029-78FE1E3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090-FBFC-4CC0-80D1-1E1FE4FE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Oxy-Acetylene; Welding, Brazing, Cutting &amp;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Acetylene General Safet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:\2009-06-14-1625-34\100_1608_edited.jpg"/>
          <p:cNvPicPr/>
          <p:nvPr/>
        </p:nvPicPr>
        <p:blipFill>
          <a:blip r:embed="rId1"/>
          <a:stretch/>
        </p:blipFill>
        <p:spPr>
          <a:xfrm>
            <a:off x="3581280" y="1447920"/>
            <a:ext cx="18795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seplay and running are not allowed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oint or gesture with a lit t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throw objects in the class or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ll injuries to the i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someone else’s lit torch to light you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leather welding gloves when welding or cu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WORK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ork area must have a fireproof floor.  Concrete is bes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heat resistant shields to protect walls and unprotected flooring from sparks and hot met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intain adequate ventilation to prevent the accumulation of toxic fumes and gas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xygen itself will not burn; however,the presence of pure oxygen will accelerate combustion and cause materials to burn with great intensit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il and grease in the presence of oxygen can ignite and burn violentl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tables with fireproof tops. Firebricks work well to protect table and bench surfa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hain or otherwise secure cylinders to a wall, bench, or car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yourself from sparks, flying slag, and flame brilliance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cutting glasses or goggles shaded 5 or d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protective gloves, sleeves, and shoes to protect the skin from sparks and sl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protective clothing free of oil and g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E PRE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oxy-fuel apparatus for oil, grease, or damaged parts. DO NOT USE the oxy-fuel apparatus if oil or grease is present or if damage is evi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use oil or grease on or around any oxy-fuel appar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 trace of oil or grease can ignite and burn violently in the presence of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flames, heat and sparks away from cylinders and h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ing sparks can travel up to 35 feet.  Make sure the area is free of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fire extinguisher of the proper type and size on hand in the work area, know where they are located in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E PREVENTION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oxy-fuel equipment only with the gases for which it is int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open the acetylene valve more than 1 full turn.  Be sure the cylinders can be turned off quickly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he oxygen valve ALL THE WAY to seal the cylinder back seal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est for leaks with a flame.  Use soapy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work is complete, inspect the area for any possible fires or smoldering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oxygen will accelerate combustion to the point that it can cause an explo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l gasses (acetylene) can be toxic.  Work in well ventilated areas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oxygen as compressed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oxygen to dust off clothing or the work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orrect size wrench when tightening or loosening fittings.  They are made of brass and can be damaged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t in use, cylinders must have a protective cap inst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 to the side of the equipment when opening the cylinder valves, and open them slowly.  This will limit the risk of injury due to exploding regul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cylinders contain pressures over 2000 PSI and must be handled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tylene is unstable at pressures above 15 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a friction lighter (striker) to light your t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metal left out should be marked “HOT” so the others will not be burned b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individuals around you and be concerned about their saf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cut directly on top of concrete.  The concrete will pop and expl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 heated / cut metal in the dunk t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area between you and the cylinders clear and the cylinder valves unob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ld or cut on a closed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leave a lit torch unatt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liers or tongs to grab hot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urbing another student while he / she is working is dang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caution any other student you see violating a safet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depend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urning the cylinder on, make sure the regulator adjustment screw is turned counterclockwise until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 clothing should be smothered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hoses frequently and, when necessar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4:08:43Z</dcterms:created>
  <dc:creator>The Hirschler's</dc:creator>
  <dc:description/>
  <dc:language>en-US</dc:language>
  <cp:lastModifiedBy>Michael Spiess</cp:lastModifiedBy>
  <dcterms:modified xsi:type="dcterms:W3CDTF">2009-11-06T10:53:30Z</dcterms:modified>
  <cp:revision>3</cp:revision>
  <dc:subject/>
  <dc:title>Unit: Oxy-Acetylene; Welding, Brazing, Cutting &amp; Heating</dc:title>
</cp:coreProperties>
</file>