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6E5F-A821-4C70-A027-0F889EF04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21F7-AB4F-407F-A2E3-F8F17998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046B-7370-4E8B-AD57-00CFCC72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43AE-9C9D-4427-8411-BEDD6AEB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44CA-2AFB-4220-9AB3-D9A18B9B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67C4-0EFD-4558-845A-C568DA6C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F13D-0ADC-40F1-A683-A923A2EF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D365-5F8F-43E9-ACDE-F289B31B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60D0-5393-4755-A5CD-45348A6F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7141-D8A5-4CA0-99A7-30390EE3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92E3-10A2-4B5A-93EC-3CB187C9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7220-56B7-4CE1-BFA0-37394E0B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D577-7305-4A45-81E7-C7740CA8C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rch Cutting Procedure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iercing a Hole 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revent the sparks and slag from blowing towards you, tilt the torch tip slightly to one side when the oxygen is de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C:\Users\The Hirschler's\Desktop\2009-10-24\100_1982.JPG"/>
          <p:cNvPicPr/>
          <p:nvPr/>
        </p:nvPicPr>
        <p:blipFill>
          <a:blip r:embed="rId1"/>
          <a:stretch/>
        </p:blipFill>
        <p:spPr>
          <a:xfrm>
            <a:off x="1066680" y="1981080"/>
            <a:ext cx="2895840" cy="2168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Users\The Hirschler's\Desktop\2009-10-24\100_1983.JPG"/>
          <p:cNvPicPr/>
          <p:nvPr/>
        </p:nvPicPr>
        <p:blipFill>
          <a:blip r:embed="rId2"/>
          <a:stretch/>
        </p:blipFill>
        <p:spPr>
          <a:xfrm>
            <a:off x="1066680" y="4267080"/>
            <a:ext cx="289584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rch Cutting Procedure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iercing a Hole 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metal is pierced, move the torch steadily in the direction you wish to c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- If the metal is not pieced all the way through it probably means that not enough cutting oxygen pressure has been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C:\Users\The Hirschler's\Desktop\2009-10-24\100_1984.JPG"/>
          <p:cNvPicPr/>
          <p:nvPr/>
        </p:nvPicPr>
        <p:blipFill>
          <a:blip r:embed="rId1"/>
          <a:stretch/>
        </p:blipFill>
        <p:spPr>
          <a:xfrm>
            <a:off x="4876920" y="2057400"/>
            <a:ext cx="2819160" cy="2112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C:\Users\The Hirschler's\Desktop\2009-10-24\100_1986.JPG"/>
          <p:cNvPicPr/>
          <p:nvPr/>
        </p:nvPicPr>
        <p:blipFill>
          <a:blip r:embed="rId2"/>
          <a:stretch/>
        </p:blipFill>
        <p:spPr>
          <a:xfrm>
            <a:off x="4876920" y="4343400"/>
            <a:ext cx="281916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rch Cutting Procedure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iercing a Hole 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400440" y="3352320"/>
            <a:ext cx="1219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C:\Users\The Hirschler's\Desktop\2009-10-24\100_1987.JPG"/>
          <p:cNvPicPr/>
          <p:nvPr/>
        </p:nvPicPr>
        <p:blipFill>
          <a:blip r:embed="rId1"/>
          <a:stretch/>
        </p:blipFill>
        <p:spPr>
          <a:xfrm>
            <a:off x="762120" y="1981080"/>
            <a:ext cx="3809880" cy="2854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:\Users\The Hirschler's\Desktop\2009-10-24\100_1989.JPG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28558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380880" y="4952880"/>
            <a:ext cx="8458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- If the cut piece does not fall off at the end of a cut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O NOT TRY TO RECUT THE KE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y tap the cut piece of metal with a Chipping Hammer and the piece will generally deta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rch Cutting Procedure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iercing a H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" descr="C:\Users\The Hirschler's\Desktop\2009-10-24\100_1991.JPG"/>
          <p:cNvPicPr/>
          <p:nvPr/>
        </p:nvPicPr>
        <p:blipFill>
          <a:blip r:embed="rId1"/>
          <a:stretch/>
        </p:blipFill>
        <p:spPr>
          <a:xfrm>
            <a:off x="1828800" y="2133720"/>
            <a:ext cx="541008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iercing a Bolt Ho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2971800"/>
            <a:ext cx="25905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C:\Users\The Hirschler's\Desktop\2009-10-24\100_1992.JPG"/>
          <p:cNvPicPr/>
          <p:nvPr/>
        </p:nvPicPr>
        <p:blipFill>
          <a:blip r:embed="rId1"/>
          <a:stretch/>
        </p:blipFill>
        <p:spPr>
          <a:xfrm>
            <a:off x="1219320" y="1371600"/>
            <a:ext cx="67816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iercing a Bolt Hole -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5520" y="2819520"/>
            <a:ext cx="1676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C:\Users\The Hirschler's\Desktop\2009-10-24\100_1993.JPG"/>
          <p:cNvPicPr/>
          <p:nvPr/>
        </p:nvPicPr>
        <p:blipFill>
          <a:blip r:embed="rId1"/>
          <a:stretch/>
        </p:blipFill>
        <p:spPr>
          <a:xfrm>
            <a:off x="685800" y="2590920"/>
            <a:ext cx="3505320" cy="2625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:\Users\The Hirschler's\Desktop\2009-10-24\100_1994.JPG"/>
          <p:cNvPicPr/>
          <p:nvPr/>
        </p:nvPicPr>
        <p:blipFill>
          <a:blip r:embed="rId2"/>
          <a:stretch/>
        </p:blipFill>
        <p:spPr>
          <a:xfrm>
            <a:off x="4648320" y="2590920"/>
            <a:ext cx="35812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iercing a Bolt Hole -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866920" y="2971800"/>
            <a:ext cx="17528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:\Users\The Hirschler's\Desktop\2009-10-24\100_1995.JPG"/>
          <p:cNvPicPr/>
          <p:nvPr/>
        </p:nvPicPr>
        <p:blipFill>
          <a:blip r:embed="rId1"/>
          <a:stretch/>
        </p:blipFill>
        <p:spPr>
          <a:xfrm>
            <a:off x="609480" y="2611440"/>
            <a:ext cx="3810240" cy="285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C:\Users\The Hirschler's\Desktop\2009-10-24\100_2001.JPG"/>
          <p:cNvPicPr/>
          <p:nvPr/>
        </p:nvPicPr>
        <p:blipFill>
          <a:blip r:embed="rId2"/>
          <a:stretch/>
        </p:blipFill>
        <p:spPr>
          <a:xfrm>
            <a:off x="4648320" y="2590920"/>
            <a:ext cx="380988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iercing a Bolt Hole -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72200" y="3505320"/>
            <a:ext cx="1371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C:\Users\The Hirschler's\Desktop\2009-10-24\100_2003.JPG"/>
          <p:cNvPicPr/>
          <p:nvPr/>
        </p:nvPicPr>
        <p:blipFill>
          <a:blip r:embed="rId1"/>
          <a:stretch/>
        </p:blipFill>
        <p:spPr>
          <a:xfrm>
            <a:off x="685800" y="2611440"/>
            <a:ext cx="3809880" cy="2854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C:\Users\The Hirschler's\Desktop\2009-10-24\100_2006.JPG"/>
          <p:cNvPicPr/>
          <p:nvPr/>
        </p:nvPicPr>
        <p:blipFill>
          <a:blip r:embed="rId2"/>
          <a:stretch/>
        </p:blipFill>
        <p:spPr>
          <a:xfrm>
            <a:off x="4648320" y="2590920"/>
            <a:ext cx="388620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6:10:50Z</dcterms:created>
  <dc:creator>The Hirschler's</dc:creator>
  <dc:description/>
  <dc:language>en-US</dc:language>
  <cp:lastModifiedBy>Michael Spiess</cp:lastModifiedBy>
  <dcterms:modified xsi:type="dcterms:W3CDTF">2009-11-06T10:52:21Z</dcterms:modified>
  <cp:revision>1</cp:revision>
  <dc:subject/>
  <dc:title>Torch Cutting Procedure  Piercing a Hole  Cont.</dc:title>
</cp:coreProperties>
</file>