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D07-DE8B-4CF7-9976-47480FB8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8BA-068B-4078-B2A9-6E4ADBC8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72D-DCEC-45C6-AB59-CBB61620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FBB-CB01-4144-829B-7501BAAF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CED8-98B2-4188-BEB1-BF6A90C9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345-9F4F-46B3-B48B-CC5A08C8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FEB-FABB-4FF4-B21E-EE152898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D8D-1B0E-4F8F-8DB0-2A702E7B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9FE-6B60-4F91-8747-3C2C5055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276-0169-43C7-9C22-C50FFDDE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D98-CAF2-4AD6-B415-E057F350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183-BE9D-4B26-8ED2-A47000C9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C057-143F-4DCB-A16E-C5002888A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19Q.ZK.B8AWaOJzbkF;_ylu=X3oDMTBqN29sN2NkBHBvcwM0MwRzZWMDc3IEdnRpZAM-/SIG=1kj4oi0vv/EXP=1256690941/**http%3A//images.search.yahoo.com/images/view%3Fback=http%253A%252F%252Fimages.search.yahoo.com%252Fsearch%252Fimages%253Fp%253DMAPP%252BGas%2526b%253D43%2526ni%253D21%2526ei%253Dutf-8%2526y%253DSearch%2526pstart%253D1%2526fr%253Dyfp-t-701%26w=113%26h=120%26imgurl=content.answers.com%252Fmain%252Fcontent%252Fwp%252Fen%252Fthumb%252F6%252F6d%252F113px-Compressed_gas_cylinders.mapp_and_oxygen.triddle.jpg%26rurl=http%253A%252F%252Fwww.answers.com%252Ftopic%252Fstorage-tank%26size=15k%26name=113px%2BCompressed...%26p=MAPP%2BGas%26oid=b47ae8b3e5a5bffa%26fr2=%26no=43%26tt=461%26b=43%26ni=21%26sigr=1193arn9h%26sigi=13cvt70fr%26sigb=13amjkgk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ds.yahoo.com/_ylt=A0S02019Q.ZK.B8AZqOJzbkF;_ylu=X3oDMTBqa2ZvcGdtBHBvcwM1NQRzZWMDc3IEdnRpZAM-/SIG=1k4kl8aa6/EXP=1256690941/**http%3A//images.search.yahoo.com/images/view%3Fback=http%253A%252F%252Fimages.search.yahoo.com%252Fsearch%252Fimages%253Fp%253DMAPP%252BGas%2526b%253D43%2526ni%253D21%2526ei%253Dutf-8%2526y%253DSearch%2526pstart%253D1%2526fr%253Dyfp-t-701%26w=195%26h=195%26imgurl=images.lowes.com%252Fproduct%252Fconverted%252F070042%252F070042624106md.jpg%26rurl=http%253A%252F%252Fwww.lowes.com%252Flowes%252Flkn%253Faction%253DproductDetail%2526productId%253D98400-717-MG9%26size=3k%26name=070042624106md%2Bj...%26p=MAPP%2BGas%26oid=a817c31035784626%26fr2=%26no=55%26tt=461%26b=43%26ni=21%26sigr=12bu4vh9v%26sigi=11s4ud5mn%26sigb=13amjkgk1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wMR.ZKUj8BkEqJzbkF;_ylu=X3oDMTBpZTByOGFiBHBvcwMyBHNlYwNzcgR2dGlkAw--/SIG=1hruhiehd/EXP=1256691852/**http%3A//images.search.yahoo.com/images/view%3Fback=http%253A%252F%252Fimages.search.yahoo.com%252Fsearch%252Fimages%253Fp%253DNatural%252BGas%2526ei%253Dutf-8%2526y%253DSearch%2526fr%253Dyfp-t-701%26w=500%26h=375%26imgurl=static.flickr.com%252F3162%252F2533444649_19cfd8cb39.jpg%26rurl=http%253A%252F%252Fwww.flickr.com%252Fphotos%252F27122698%2540N03%252F2533444649%252F%26size=170k%26name=Jacobs%2BEnergy%2BNa...%26p=Natural%2BGas%26oid=c3c7d673f14c2dfe%26fr2=%26fusr=jacobsenergy%26no=2%26tt=526391%26sigr=11lmutlvv%26sigi=11glo8srd%26sigb=12p9j6rci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rds.yahoo.com/_ylt=A0S020wMR.ZKUj8BokqJzbkF;_ylu=X3oDMTBqaTFoaGxvBHBvcwMxNwRzZWMDc3IEdnRpZAM-/SIG=1h26n3upt/EXP=1256691852/**http%3A//images.search.yahoo.com/images/view%3Fback=http%253A%252F%252Fimages.search.yahoo.com%252Fsearch%252Fimages%253Fp%253DNatural%252BGas%2526ei%253Dutf-8%2526y%253DSearch%2526fr%253Dyfp-t-701%26w=200%26h=162%26imgurl=www.porvairfiltration.com%252Fimg%252Fcategories%252F23.jpg%26rurl=http%253A%252F%252Fwww.porvairfiltration.com%252Fview_cat2a65.html%253Fi%253D13%2526s%253D23%26size=34k%26name=23%2Bjpg%26p=Natural%2BGas%26oid=20370be702ea6956%26fr2=%26no=17%26tt=526391%26sigr=11ssdhqcm%26sigi=11f37dp2i%26sigb=12p9j6rci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0WSOZKCSMA5ZeJzbkF;_ylu=X3oDMTBqNzBzNzJ2BHBvcwM1NgRzZWMDc3IEdnRpZAM-/SIG=1iokhjbrp/EXP=1256692118/**http%3A//images.search.yahoo.com/images/view%3Fback=http%253A%252F%252Fimages.search.yahoo.com%252Fsearch%252Fimages%253Fp%253DPropane%2526b%253D43%2526ni%253D21%2526ei%253Dutf-8%2526pstart%253D1%2526fr%253Dyfp-t-701%26w=121%26h=175%26imgurl=www.backyardcity.com%252Fimages%252FUFC%252FPropane-Tank-small.jpg%26rurl=http%253A%252F%252Fwww.backyardcity.com%252Fimages%252FUFC%252FPropane-Safety-and-Regulations.htm%26size=4k%26name=Propane%2BTank%2Bsma...%26p=Propane%26oid=7a833922291774ac%26fr2=%26no=56%26tt=379582%26b=43%26ni=21%26sigr=1291vrai3%26sigi=11ml8he9e%26sigb=130lh69bo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rds.yahoo.com/_ylt=A0S0202DSOZKECMAtH.JzbkF;_ylu=X3oDMTBqajVmOWNxBHBvcwM4OQRzZWMDc3IEdnRpZAM-/SIG=1gfhc4bee/EXP=1256692227/**http%3A//images.search.yahoo.com/images/view%3Fback=http%253A%252F%252Fimages.search.yahoo.com%252Fsearch%252Fimages%253Fp%253DPropane%2526b%253D85%2526ni%253D21%2526ei%253Dutf-8%2526pstart%253D1%2526fr%253Dyfp-t-701%26w=400%26h=200%26imgurl=www.buypropane.net%252Fimages%252FPropane-Tank.jpg%26rurl=http%253A%252F%252Fwww.buypropane.net%252F%26size=15k%26name=Propane%2BTank%2Bjpg%26p=Propane%26oid=71658c456c538e84%26fr2=%26no=89%26tt=379582%26b=85%26ni=21%26sigr=10qo7lojj%26sigi=11a4f9o9r%26sigb=130v5n30t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z5T.ZKWUUBNamJzbkF;_ylu=X3oDMTBrZ20xOHVwBHBvcwMxMDQEc2VjA3NyBHZ0aWQD/SIG=1k64o0ajb/EXP=1256694137/**http%3A//images.search.yahoo.com/images/view%3Fback=http%253A%252F%252Fimages.search.yahoo.com%252Fsearch%252Fimages%253Fp%253Doxygen%252Bcylinders%2526b%253D85%2526ni%253D21%2526ei%253Dutf-8%2526y%253DSearch%2526pstart%253D1%2526fr%253Dyfp-t-701%26w=200%26h=232%26imgurl=www.breathingair.com%252FPictures%252Fcapped%252520cylinders.jpg%26rurl=http%253A%252F%252Fwww.breathingair.com%252Flevel.aspx%253FID%253DQ6UJ9A00007K%2526Crumb%253DLQ6UJ9A000078%26size=15k%26name=capped%2Bcylinders...%26p=oxygen%2Bcylinders%26oid=40482411276a20f4%26fr2=%26no=104%26tt=4311%26b=85%26ni=21%26sigr=12arv8k3t%26sigi=11keh9onu%26sigb=13ikvmelb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rds.yahoo.com/_ylt=A0S0206DUOZKm3wAEBiJzbkF;_ylu=X3oDMTBpZm5udGl1BHBvcwM1BHNlYwNzcgR2dGlkAw--/SIG=1hdb3gq5e/EXP=1256694275/**http%3A//images.search.yahoo.com/images/view%3Fback=http%253A%252F%252Fimages.search.yahoo.com%252Fsearch%252Fimages%253Fp%253DAcetylene%252Bcylinders%2526ei%253Dutf-8%2526fr%253Dyfp-t-701%26w=333%26h=500%26imgurl=static.flickr.com%252F28%252F61416258_efaca9c10e.jpg%26rurl=http%253A%252F%252Fwww.flickr.com%252Fphotos%252F58955454%2540N00%252F61416258%252F%26size=76k%26name=acetylene%2Bsentin...%26p=Acetylene%2Bcylinders%26oid=48f830783e5be146%26fr2=%26fusr=jimmymac363%26no=5%26tt=222%26sigr=11jsh3opc%26sigi=11c27vas5%26sigb=12o0jlsgl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mQU.ZKM_YA9uOJzbkF;_ylu=X3oDMTBpaWhqZmNtBHBvcwMzBHNlYwNzcgR2dGlkAw--/SIG=1i5avplqp/EXP=1256695056/**http%3A//images.search.yahoo.com/images/view%3Fback=http%253A%252F%252Fimages.search.yahoo.com%252Fsearch%252Fimages%253Fp%253Dcylinder%252Bstorage%2526js%253D1%2526ei%253Dutf-8%2526fr%253Dyfp-t-701%26w=360%26h=197%26imgurl=www.thehazmatpro.com%252Fengineering%252Fimg_gefahr%252Fgas_cylinder_storage_2.jpg%26rurl=http%253A%252F%252Fwww.thehazmatpro.com%252Fengineering%252Fgas_cylinder_storage.html%26size=12k%26name=gas%2Bcylinder%2Bsto...%26p=cylinder%2Bstorage%26oid=7c2cd10584ce1fea%26fr2=%26no=3%26tt=16420%26sigr=121joqg4g%26sigi=126nbtmqd%26sigb=12qqftp5f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rds.yahoo.com/_ylt=A0S020mQU.ZKM_YACuSJzbkF;_ylu=X3oDMTBqaWRlZWhnBHBvcwMxOQRzZWMDc3IEdnRpZAM-/SIG=1hl4o49kl/EXP=1256695056/**http%3A//images.search.yahoo.com/images/view%3Fback=http%253A%252F%252Fimages.search.yahoo.com%252Fsearch%252Fimages%253Fp%253Dcylinder%252Bstorage%2526js%253D1%2526ei%253Dutf-8%2526fr%253Dyfp-t-701%26w=296%26h=319%26imgurl=www.materialflow.com%252FMFG-PRODS%252FMeco%252FCylinder_Cabinet_CSC2V.jpg%26rurl=http%253A%252F%252Fwww.materialflow.com%252FCylinder_Storage_and_Transport.htm%26size=23k%26name=Cylinder%2BCabinet...%26p=cylinder%2Bstorage%26oid=23dd4a4ca0c9eb36%26fr2=%26no=19%26tt=16420%26sigr=11u3olspu%26sigi=11udrn3ct%26sigb=12qqftp5f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4TV.ZKwqMAQ7SJzbkF;_ylu=X3oDMTBqaTFoaGxvBHBvcwMxNwRzZWMDc3IEdnRpZAM-/SIG=1hcih0du9/EXP=1256695955/**http%3A//images.search.yahoo.com/images/view%3Fback=http%253A%252F%252Fimages.search.yahoo.com%252Fsearch%252Fimages%253Fp%253Dpropane%252Bflame%26w=321%26h=237%26imgurl=www.thefrontporchview.com%252Fwp-content%252Fuploads%252F2008%252F03%252Fpropane-20flame-small.jpg%26rurl=http%253A%252F%252Fwww.thefrontporchview.com%252Fcategory%252Fadvice-on-buying-a-home-in-north-georgia%26size=8k%26name=propane%2B20flame%2B...%26p=propane%2Bflame%26oid=0db8173229b4aef6%26fr2=%26no=17%26tt=6760%26sigr=12i6l9s36%26sigi=12e2tuf3o%26sigb=11smrc32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lyQOZKreEARmaJzbkF;_ylu=X3oDMTBrM2tjaWk3BHBvcwMxMDEEc2VjA3NyBHZ0aWQD/SIG=1hdov60cj/EXP=1256690162/**http%3A//images.search.yahoo.com/images/view%3Fback=http%253A%252F%252Fimages.search.yahoo.com%252Fsearch%252Fimages%253Fp%253DAcetylene%252BCylinder%2526b%253D85%2526ni%253D21%2526ei%253Dutf-8%2526pstart%253D1%2526fr%253Dyfp-t-701%26w=416%26h=379%26imgurl=www.sanghioxygen.com%252Fimages%252F200cm.jpg%26rurl=http%253A%252F%252Fwww.sanghioxygen.com%252Fmiscelianous.htm%26size=64k%26name=200cm%2Bjpg%26p=Acetylene%2BCylinder%26oid=d16920fa2b7986c4%26fr2=%26no=101%26tt=386%26b=85%26ni=21%26sigr=11cphrcvh%26sigi=115o6v8cn%26sigb=13bipk7k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rds.yahoo.com/_ylt=A0S02026QOZKbRcAAI2JzbkF;_ylu=X3oDMTBrNTNocWY4BHBvcwMxODcEc2VjA3NyBHZ0aWQD/SIG=1hsha3esb/EXP=1256690234/**http%3A//images.search.yahoo.com/images/view%3Fback=http%253A%252F%252Fimages.search.yahoo.com%252Fsearch%252Fimages%253Fp%253DAcetylene%252BCylinder%2526b%253D169%2526ni%253D21%2526ei%253Dutf-8%2526pstart%253D1%2526fr%253Dyfp-t-701%26w=479%26h=329%26imgurl=www.sanghioxygen.com%252Fimages%252Fimages%252Fimage3.jpg%26rurl=http%253A%252F%252Fwww.sanghioxygen.com%252Fmiscelianous.htm%26size=95k%26name=image3%2Bjpg%26p=Acetylene%2BCylinder%26oid=c9b15dc54f7681e4%26fr2=%26no=187%26tt=386%26b=169%26ni=21%26sigr=11cphrcvh%26sigi=11djn1pjl%26sigb=13cv9gqro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Unit: Oxy-Acetylene- Welding, Brazing, Cutting and Hea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SSON: OXY-FUEL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The Hirschler's\Desktop\2009-10-24\100_1915.JPG"/>
          <p:cNvPicPr/>
          <p:nvPr/>
        </p:nvPicPr>
        <p:blipFill>
          <a:blip r:embed="rId1"/>
          <a:stretch/>
        </p:blipFill>
        <p:spPr>
          <a:xfrm>
            <a:off x="1752480" y="1676520"/>
            <a:ext cx="2627280" cy="350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100_1608_edited"/>
          <p:cNvPicPr/>
          <p:nvPr/>
        </p:nvPicPr>
        <p:blipFill>
          <a:blip r:embed="rId2"/>
          <a:stretch/>
        </p:blipFill>
        <p:spPr>
          <a:xfrm>
            <a:off x="4800600" y="1676520"/>
            <a:ext cx="1887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PP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 Gas is a new fuel gas in the acetylene fam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components are methylacetylene, propadiene, propylene and other related compou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readily liquefied and shipped in standard L.P.G. containers at 60 P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good fuel gas for heating and cutting. However, special welding rod must be used to combat the oxidizing characteristics of the flame on the molten metal during the welding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neutral flame temperatur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s Fahrenhe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3505320"/>
            <a:ext cx="2370240" cy="2514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12193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TURAL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7240" y="152388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most abundant of all the fuel g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natural gas supplies are generally available at pressures from 5 oz. to 30 P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“injector” type welding and cutting equipment is usually required when using natural gas consumption for a neutral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neutral flame temperature of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0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Fahrenh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st commonly used for heating and cutting appl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447920"/>
            <a:ext cx="2743200" cy="204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809880"/>
            <a:ext cx="28195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P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715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ne is an abundant and versatile fu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mpressed, liquefied and confined, it can develop a vapor pressure of 200 P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rmally sold in liqui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ne cylinders range from 20-lb. to 100-l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utral flame temperature is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2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Fahrenh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ne is most commonly used for cutting and heating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1600200"/>
            <a:ext cx="1297080" cy="1886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4307040"/>
            <a:ext cx="24382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xygen Cyli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xygen Cylinders are made from seamless drawn steel and shaped by dies into tan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provide strong, durable containers with no joints or welded s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ickness of the cylinder wall is at least ¼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fully charged, a standard cylinder holds about 244 cu/ft. of oxygen at a pressure of 2200 psi. at 70 degr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29040" y="2285640"/>
            <a:ext cx="15228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2286000"/>
            <a:ext cx="2232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etylene Cyli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2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temperature melting fuse plugs at the top and bottom of the cylinder allow gas to escape if temperatures exceed 212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ping gas may cause a fire, but no explosion will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ical acetylene cylinder contains about 280 cu./ft. of gas at a pressure of 250 p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600" y="2133360"/>
            <a:ext cx="37339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use Pl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:\Users\The Hirschler's\Desktop\2009-10-24\100_1917.JPG"/>
          <p:cNvPicPr/>
          <p:nvPr/>
        </p:nvPicPr>
        <p:blipFill>
          <a:blip r:embed="rId1"/>
          <a:stretch/>
        </p:blipFill>
        <p:spPr>
          <a:xfrm>
            <a:off x="304920" y="3124080"/>
            <a:ext cx="4190760" cy="3141720"/>
          </a:xfrm>
          <a:prstGeom prst="rect">
            <a:avLst/>
          </a:prstGeom>
          <a:ln w="0">
            <a:noFill/>
          </a:ln>
        </p:spPr>
      </p:pic>
      <p:sp>
        <p:nvSpPr>
          <p:cNvPr id="94" name="Line 8"/>
          <p:cNvSpPr/>
          <p:nvPr/>
        </p:nvSpPr>
        <p:spPr>
          <a:xfrm>
            <a:off x="60199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133720" y="25909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2133720" y="2590920"/>
            <a:ext cx="99036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H="1">
            <a:off x="2819520" y="3352680"/>
            <a:ext cx="30456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ylinder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, store, and use cylinders in an uprigh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(chain) each cylinder to a wall, cart or sturdy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cylinder safety caps after each use to protect the val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and pressure to open oxygen cylinder valves –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ever use a wren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ver roll cylinders horizontally or use them as rollers to move a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Users\The Hirschler's\Desktop\2009-10-24\100_1925.JPG"/>
          <p:cNvPicPr/>
          <p:nvPr/>
        </p:nvPicPr>
        <p:blipFill>
          <a:blip r:embed="rId1"/>
          <a:stretch/>
        </p:blipFill>
        <p:spPr>
          <a:xfrm>
            <a:off x="228600" y="1752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4114800"/>
            <a:ext cx="1512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ylinder Care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oxygen and acetylene cylinders separately, at least 20 ft. from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tore cylinders in areas with hot temperatures as internal pressure could rise to a dangerous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full cylinders away from empty cylin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 us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lly ope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xygen cyli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ve so oxygen cannot leak around the valve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 us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etylene cyli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ve no more than one full turn – so it can be quickly shut off in an emerg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447920"/>
            <a:ext cx="2361960" cy="127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3048120"/>
            <a:ext cx="1371600" cy="1485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Go to fullsize image"/>
          <p:cNvPicPr/>
          <p:nvPr/>
        </p:nvPicPr>
        <p:blipFill>
          <a:blip r:embed="rId5"/>
          <a:stretch/>
        </p:blipFill>
        <p:spPr>
          <a:xfrm>
            <a:off x="6781680" y="4800600"/>
            <a:ext cx="16574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xy-Fuel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gases are available for use in oxy-fuel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y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0040" y="16765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ce of oxygen is required to support any burn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refore necessary that oxygen be combined with a “fuel” gas to produce the desired operating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itself is not flammable or harm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presence of pure oxygen will drastically increase the speed and force with which burning takes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oxygen can turn a small spark into a roaring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:\Users\The Hirschler's\Desktop\2009-10-24\100_1921.JPG"/>
          <p:cNvPicPr/>
          <p:nvPr/>
        </p:nvPicPr>
        <p:blipFill>
          <a:blip r:embed="rId1"/>
          <a:stretch/>
        </p:blipFill>
        <p:spPr>
          <a:xfrm>
            <a:off x="380880" y="1905120"/>
            <a:ext cx="25974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XYGE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181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colorless, odorless gas contained in the earth’s atmosp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dded to a fuel gas such as an acetylene flame, the flame increases in temperature and combustion rate is more rap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xygen will not combust or burn in its natural s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00_1614"/>
          <p:cNvPicPr/>
          <p:nvPr/>
        </p:nvPicPr>
        <p:blipFill>
          <a:blip r:embed="rId1"/>
          <a:stretch/>
        </p:blipFill>
        <p:spPr>
          <a:xfrm>
            <a:off x="5791320" y="2438280"/>
            <a:ext cx="29718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XYGE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335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xygen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be allowed to contact oil, grease or other petroleum-based sub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il and/or grease in the presence of oxygen becomes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HIGHLY EXPLOS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oxygen cylinders are pressurized from 2000 to 2600 pounds per square inch (P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high pressure under which oxygen is bottled and stored, cylinders must always be handled with great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28" descr="C:\Users\The Hirschler's\Desktop\2009-10-24\100_1922.JPG"/>
          <p:cNvPicPr/>
          <p:nvPr/>
        </p:nvPicPr>
        <p:blipFill>
          <a:blip r:embed="rId1"/>
          <a:stretch/>
        </p:blipFill>
        <p:spPr>
          <a:xfrm>
            <a:off x="380880" y="2286000"/>
            <a:ext cx="30481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ETY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lorless gas, with a strong garlic-like-putrid sm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most frequently used fuel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highly combustible when mixed with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one of the highest flame temperatures available – 5,600 degrees Fahrenh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welding, cutting, brazing, heating, and hard fa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mbustible and flammable gas – burns rapi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Users\The Hirschler's\Desktop\2009-10-24\100_1916.JPG"/>
          <p:cNvPicPr/>
          <p:nvPr/>
        </p:nvPicPr>
        <p:blipFill>
          <a:blip r:embed="rId1"/>
          <a:stretch/>
        </p:blipFill>
        <p:spPr>
          <a:xfrm>
            <a:off x="5943600" y="1981080"/>
            <a:ext cx="2797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ETYLENE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000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etylene gas is a combination of carbon and hydrogen (C2H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produced when calcium carbide is submerged in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scaping gas from the acetylene generator is then trapped in a gas chamber to be compressed into cylinders or fed into piping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MPORTANT- Acetylene is a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unstable gas”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when compressed above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15 PS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fore cannot be stored in a hollow cylinder under high pressure, for example the way oxygen is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2286000" cy="2073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4267080"/>
            <a:ext cx="2438280" cy="1671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38088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tylene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 flipV="1">
            <a:off x="1523880" y="358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69960" y="5904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89080" y="605628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ETYLENE Co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ylene cylinders are filled with a porous material creating in effect a “solid” as opposed to a “hallow” cy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ous filling is then saturated with liquid acet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cetylene is pumped into the cylinder it becomes dissolved in the liquid acetone throughout the porous filling and is held in a stable con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acetylene cylinders are pressurized to about 250 P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ttp://rds.yahoo.com/_ylt=A0S020lJQeZKreEA6vijzbkF/SIG=11rvg88ir/EXP=1256690377/**http%3A//www.tpub.com/air/jpg/15_20_2.jpg"/>
          <p:cNvPicPr/>
          <p:nvPr/>
        </p:nvPicPr>
        <p:blipFill>
          <a:blip r:embed="rId1"/>
          <a:stretch/>
        </p:blipFill>
        <p:spPr>
          <a:xfrm>
            <a:off x="5410080" y="1752480"/>
            <a:ext cx="3586320" cy="3962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rds.yahoo.com/_ylt=A0S020lJQeZKreEA6vijzbkF/SIG=11rvg88ir/EXP=1256690377/**http%3A//www.tpub.com/air/jpg/15_20_2.jpg"/>
          <p:cNvPicPr/>
          <p:nvPr/>
        </p:nvPicPr>
        <p:blipFill>
          <a:blip r:embed="rId2"/>
          <a:stretch/>
        </p:blipFill>
        <p:spPr>
          <a:xfrm>
            <a:off x="5410080" y="1752480"/>
            <a:ext cx="3586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ETYLENE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00_1615"/>
          <p:cNvPicPr/>
          <p:nvPr/>
        </p:nvPicPr>
        <p:blipFill>
          <a:blip r:embed="rId1"/>
          <a:stretch/>
        </p:blipFill>
        <p:spPr>
          <a:xfrm>
            <a:off x="304920" y="1981080"/>
            <a:ext cx="3886200" cy="2909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4648320" y="1676520"/>
            <a:ext cx="4267080" cy="34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ylene when combined with oxygen has a flame temperature of (5,589 degrees)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6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in the neutral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ylene makes a good general purpose fuel gas - well suited for numerous applications like heating, welding, cutting, brazing and hardfa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19:06:40Z</dcterms:created>
  <dc:creator>HP Authorized Customer</dc:creator>
  <dc:description/>
  <dc:language>en-US</dc:language>
  <cp:lastModifiedBy>Michael Spiess</cp:lastModifiedBy>
  <dcterms:modified xsi:type="dcterms:W3CDTF">2009-11-06T10:52:44Z</dcterms:modified>
  <cp:revision>13</cp:revision>
  <dc:subject/>
  <dc:title>OXY-FUEL WELDING, CUTTING and HEATING</dc:title>
</cp:coreProperties>
</file>