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19F-06F0-4AD8-B35E-9FE3B6C6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D5F-91AB-4D92-B3C8-0CA209A9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8BF-9929-4912-9A41-0DA26229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B08-5908-40F6-98EE-848D8310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4EE-22B5-4840-A21F-C1EE4CB4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1554-E49F-4933-83C4-5638506A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2306-6A04-4C65-8731-D89B7F1E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2BD1-357B-4651-B500-2B6E1DF0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6E83-7D54-4A85-8AF0-1E7038E7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BF6E-A888-49F3-89DB-6E0D44F3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BB2C-F934-4F43-A35B-0543CCE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D7A-CCBE-4E05-A3F8-F4CE450A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1EB9-13E4-4250-A49D-D97DC0F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044E-2501-43AB-8E7A-DD71D0C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B849-A77F-4579-8D11-F0B648D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FD4D-B37E-4106-9AAE-BF44F3DC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DD95-4A4E-41D9-9ADD-59448C3B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D95-5FF9-467B-87F3-830CC653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5FC-865F-4554-AA29-E73968E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554-870D-49C0-A545-BE7DCBE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38D-F108-47BA-9E84-0922BD13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607-F95D-4A50-A6CB-0304C65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600-A0B9-438A-90DB-5E114CB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90F-8AC1-4A9C-BBC4-209DC34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C33-BAD4-4255-B42F-89D507C88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F639-1DC9-459C-818B-F85722CB2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lecting, Cutting, and Shaping Wo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01-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re strength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ters, studs, joist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graded into number 1, 2, 3 Dimension, depending upo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hieving Quality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parallel to th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 appear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method for s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s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s divided into quar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quarter is sawn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less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400040" cy="186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4486320"/>
            <a:ext cx="1467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10382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537600" cy="476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68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in-sawed or Plain sawn L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Quartersawn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1722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r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harvested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lem and Phloem conta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Lumber 120-130% moistur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must be dr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Lumber must be 15% or less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shrinks and distorts as it d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lumber must be 6-8% moi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drying is 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 year per inch of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ir drying wood can be kiln dried to 6-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n is a large oven that slowly heats the wood removing excess mois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Finis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ber is sold in 4 standard fin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l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from the saw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 surfaced two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Finis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4S surfaced four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des and edges are planed to exact dim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 are ex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rfaces are s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ndard Lumber Siz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s direct from the sawmill are rough 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 an exa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4 may b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¼ x 4 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oards are finished at the lumber 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inished boards are also not the size they say they are, or nomin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 S4S 2x4 is actually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x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ypes of saw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aws and mechanical 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hand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 s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utting across the g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boards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8006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utting along the width of the board or with the g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boards narr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1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539720"/>
            <a:ext cx="59817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9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Annual Growth Rings"/>
          <p:cNvPicPr/>
          <p:nvPr/>
        </p:nvPicPr>
        <p:blipFill>
          <a:blip r:embed="rId1">
            <a:lum bright="66000"/>
            <a:alphaModFix amt="27000"/>
          </a:blip>
          <a:stretch/>
        </p:blipFill>
        <p:spPr>
          <a:xfrm>
            <a:off x="914400" y="685800"/>
            <a:ext cx="6095880" cy="5767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haracteristics of Wood and Lumb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rd, compact fibrous material that comes from the branches and stems of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R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caused by hardening of the xylem and phloem of a plant, as new xylem and phloem are developed each year.  Responsible for the appearance of the wood g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s or animals with the same characteristics.  Crucial in the selection of wood, some are better for decoration, some resist rot, some are hard, some are sof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405080"/>
            <a:ext cx="5486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0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boards removes part of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sawdust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account for this kerf when we are laying out our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saw blades will leave a 1/8” K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Ker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8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317600"/>
            <a:ext cx="6921720" cy="500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Ker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dos and Rabbe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cuts we make will go through an entir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s and rabbets are cuts or grooves made to receive another board to make a stronger j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67400" y="2247840"/>
            <a:ext cx="3028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dos and Rabbe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33840" y="2438280"/>
            <a:ext cx="308628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ets are used on end joints like drawer co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ow a Tree Grow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3754440" cy="388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8862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ardwood vs. Softwo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that i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ife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. (trees that keep their leaves through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e, Douglas Fir, Red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that i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.  (loose their leaves in the fall and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k, Maple, Cherry, Waln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ood Gr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, clear Lumber in a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= free of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ts = where branches attach to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 – First and Sec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’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”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%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ide of the board meets 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 and FAS-1 are used for very fine wood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verage Hard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1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C = 4’ long, 3” wide, 67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2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C = 4’ long, 3” wide, 50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C = 4’ long, 3” wide, 33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d L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, Common, and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: used where appearance is important, fascia boards, trim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s can be covered by paint or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vided into Grade A, B, C, &amp; D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construction where appearance is not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vided into Number 1,2,3,4,5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5 Common is the lowest quality lumber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21:30:56Z</dcterms:created>
  <dc:creator>Valued Gateway Client</dc:creator>
  <dc:description/>
  <dc:language>en-US</dc:language>
  <cp:lastModifiedBy>dpiersma</cp:lastModifiedBy>
  <dcterms:modified xsi:type="dcterms:W3CDTF">2009-11-12T20:23:33Z</dcterms:modified>
  <cp:revision>9</cp:revision>
  <dc:subject/>
  <dc:title>Selecting, Cutting, and Shaping Wood</dc:title>
</cp:coreProperties>
</file>