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wmf" ContentType="image/x-wmf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DD19-4186-4545-BB28-BE370E76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BA04-6705-44F6-A6CC-F3254739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3938-8E30-4375-8026-950D72EB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424C-5D17-4460-8F6B-C2009288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64D2-0ADB-483D-BA7F-78620C59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B559-C905-4169-9525-BD0D524F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6F64-9D9E-4A1B-A4BA-0F994A83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4586-450B-480D-9B9B-C994FFB5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76DB-60D7-4C4E-9EA8-27524510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294A-87F5-48FB-AD1B-167E916E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F6E7-2525-4FA7-ACB5-78C4C192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B1A2-141E-4777-9C70-245C3551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79E7-BD49-402A-AB20-03F28681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12DB-0BAA-4E82-A832-77AE1661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10AA-39E3-4D01-8065-5D0EE5EE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FDE1-D0A5-4E13-9FF0-5A662B89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9B6E-A778-48A3-9F0A-E98EAAC2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F0BA-7446-48FA-BD6B-959EC11B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D5F-956A-4794-A28C-13FC93BC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2A9-F5B9-4783-A4D1-8A251D4B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BC35-F408-4758-AC41-F34C69CF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7A55-0AB4-42BB-832B-2B7DC65D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CF19-CD0E-4BB1-A535-BF77366C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CA88-912E-4DBE-82AB-D54D73AB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9720" indent="-63972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368360" indent="-45396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784520" indent="-41292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241720" indent="-41292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241720" indent="-41292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241720" indent="-41292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1C56-EDE4-4E7E-BC10-844288F51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2827-882B-4247-97C4-283ABE817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old metal and Layou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r. Patters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nstruction Tech 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k Punch - Is used to transfer directly from the drawing to the sheet metal by placing the drawing on top of the metal and then tapping the punch with a hammer to mark the metal through the drawing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er Punch - Is used to enlarge a mark for a drill to follow in order to prevent wandering of the drill bit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4495680" cy="24192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ick Punch           Center Punc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6480" y="250992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pstone - Is a white, soft, natural element cut to either a rectangular or round shape about 4” long and is used to mark rough measurements on ste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124080" y="3086280"/>
            <a:ext cx="3848400" cy="2885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liding “T” Bevel - Is a transfer tool used to copy different angles from a blueprint or project onto the met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viders - Used to transfer a dimension from a rule to the metal.  Also used to scratch circles or arcs in the metal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liding T Bevel       Divider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120" y="2610000"/>
            <a:ext cx="3771720" cy="2628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105520" y="25146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lipers - Used to measure the thickness or diameter of an object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ass - Used to mark circles and arcs on metal. The compass uses a pencil attached to one leg to make the ma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B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Measurement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95800" y="2133720"/>
            <a:ext cx="2628720" cy="3581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4343400"/>
            <a:ext cx="769608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irst step in correct layout is to measure with exact dimensions the item being copied using a rule, metal tape, dividers, and/or comp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1904760"/>
            <a:ext cx="7696080" cy="1942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bility to read and measure correctly both whole and fractional dimensions from the rule to work and back to the rule requires concentration and counting accurately along the ru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7696080" cy="2895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kill at measuring requires practice. You should be able to measure accurately to the nearest 1/16”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3809880" cy="3135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ld metal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9720" indent="-639720"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ing with metal with out using he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68360" indent="-45396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nding, Drilling, taping, cutting, ro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C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Project Layou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ject Lay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276720" y="1965240"/>
          <a:ext cx="647676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65240"/>
                    <a:ext cx="647676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C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Project Layou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yout or transfer work is the placement of the measurements and lines on the met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yout work is done in full scale and allows for saw cuts or kerfs as needed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yout can be done from a drawing or from an actual project being copied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C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Project Layou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nsfer the dimensions from drawing to metal using one of the following metho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68360" indent="-453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tach a drawing (full size) to the metal. Use a scratch awl to make an outline of the proj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68360" indent="-453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fer lines from a drawing to metal using a straight edge and scratch awl or soapstone. Be sure all lines are straight and angles are corr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68360" indent="-453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templates or cardboard to transfer curves and ang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dentification and Use of Basic Metalworking Tools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9720" indent="-63972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Metalworking Tool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ratch Awl or Scribe - Hardened steel rod with a sharp point that allows you to make marks on steel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in Snips -Hand-held pliers-like tool used for cutting sheet met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649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cksaw - A hand-held saw with a replaceable blade.  Used for cutting all types of thin metals, round and bar stock, pipes, and tubing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cratch Awl and Tin snip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2509920"/>
            <a:ext cx="3771720" cy="2828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86480" y="250992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Hacksaw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2030400"/>
            <a:ext cx="7696080" cy="3787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A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Metalworking Tool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rill Press - A mounted drill used for precision drilling  of portable object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ld Chisel - Is used with a hammer and vise to shear the me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92840" y="1905120"/>
            <a:ext cx="1359000" cy="4038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9720" indent="-639720">
              <a:spcBef>
                <a:spcPts val="675"/>
              </a:spcBef>
              <a:buClr>
                <a:srgbClr val="cccc99"/>
              </a:buClr>
              <a:buSzPct val="7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ayout Tools - Both measuring and layout tools require skill in use and care in handling and storag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el Rule - Used to make linear measurements, check straight lines, and to project straight lines onto metal.  Usually marked in units to 1/32”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66680" y="4191120"/>
            <a:ext cx="6934320" cy="17524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bination Square - Consists of a steel rule, level, and 90 and 45 degree angles.  Used to layout markings on metal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66880" y="3048120"/>
            <a:ext cx="4054680" cy="2919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III.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Layout and Transfer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3600" indent="-536400">
              <a:spcBef>
                <a:spcPts val="550"/>
              </a:spcBef>
              <a:buClr>
                <a:srgbClr val="97cdcc"/>
              </a:buClr>
              <a:buSzPct val="15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al Tape - Used to layout dimensions longer than a few feet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3644640" cy="3124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03:53:13Z</dcterms:created>
  <dc:creator>RPatterson</dc:creator>
  <dc:description/>
  <dc:language>en-US</dc:language>
  <cp:lastModifiedBy>RPatterson</cp:lastModifiedBy>
  <dcterms:modified xsi:type="dcterms:W3CDTF">2009-11-11T21:51:22Z</dcterms:modified>
  <cp:revision>8</cp:revision>
  <dc:subject/>
  <dc:title>Cold metal and Layout</dc:title>
</cp:coreProperties>
</file>