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1.jpeg" ContentType="image/jpeg"/>
  <Override PartName="/ppt/media/image16.png" ContentType="image/png"/>
  <Override PartName="/ppt/media/image4.png" ContentType="image/png"/>
  <Override PartName="/ppt/media/image24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960A-730A-4E38-9185-8ED3AA82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1989-E9C5-48C2-BA3E-6838618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6924C-43E7-4085-8DBF-2F13E7C1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51452-4E09-45EA-88D8-4A36BE72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2C5A-DB0F-47C5-8E08-D3B85622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546F-5E76-4DDB-AAD3-20B8B414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B28D-EEFF-4275-B01C-EE9F9F01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5C932-0164-4993-95E2-04B6CF9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BA92-AC90-45E3-9EFB-62361538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4ED1-0D21-4E07-BC37-09DD1FD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A29-4147-48B7-BC2C-7C449477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3218-EC6D-4ECC-8134-DDF301E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0B98-D9BC-421C-85D7-0E244E4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5568-D8C4-4A0D-ACD4-252D07C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A026-3A72-47C6-9CEA-2195012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17C-A770-4A69-B697-62DE70C3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9EAD-664F-47A0-B946-588CD123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7B4C0-6D01-4F0E-9C4A-BD94F846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715E-ADF7-4CFF-B94C-6FA54DD9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02E0-11A7-4F1B-B101-438A46DC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9CFF-C487-421A-9CCE-4CB14EE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4BC0-D928-4627-9CC0-A6B94AFA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A8CA-3032-4E94-9488-720DCB3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4B08-429E-4197-BEE8-F86D3EA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95E7-37FD-4D89-BE06-CD04A14DC6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7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7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241720" indent="-4129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241720" indent="-412920">
              <a:spcBef>
                <a:spcPts val="799"/>
              </a:spcBef>
              <a:buClr>
                <a:srgbClr val="ffffff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4453-AD2F-41F3-A9DF-26C2B9316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R. PATTER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TRUCTION TECH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p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yout hole location using “Drilling”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required tap size and threads per inch (TP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53400" indent="-653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ult Tap Drill chart for hole si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005440" y="1600200"/>
            <a:ext cx="3322440" cy="2185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p Drill Cha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21640" y="65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37960" y="-63360"/>
          <a:ext cx="8669160" cy="6984720"/>
        </p:xfrm>
        <a:graphic>
          <a:graphicData uri="http://schemas.openxmlformats.org/drawingml/2006/table">
            <a:tbl>
              <a:tblPr/>
              <a:tblGrid>
                <a:gridCol w="1720800"/>
                <a:gridCol w="260280"/>
                <a:gridCol w="1055880"/>
                <a:gridCol w="1214280"/>
                <a:gridCol w="254160"/>
                <a:gridCol w="1693800"/>
                <a:gridCol w="254160"/>
                <a:gridCol w="1029960"/>
                <a:gridCol w="1185840"/>
              </a:tblGrid>
              <a:tr h="3988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 Drill Ch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COARSE THREAD(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ational Fine Threads (NF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Bo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 of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hrea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 Screw 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t or Scre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ri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d T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 U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/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/32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/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/64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/8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/16"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s inside and ou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 classifications of threa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Fine (UNF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Course (UNC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ational Pipe Thread (NP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191120" y="1371600"/>
            <a:ext cx="4825800" cy="517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Diame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iameter of the thread measured directly over the threa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ad Pitch- # of threads per in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648320" cy="4543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 hand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e St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352680" y="1533600"/>
            <a:ext cx="5334120" cy="186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276720" y="3922560"/>
            <a:ext cx="5410080" cy="1770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reading tools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ctr"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aramond"/>
              </a:rPr>
              <a:t>Cutting Fluid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721320" cy="4953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as a semi-permanent form of fasting metal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an join dissimilar materials togeth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092480" y="152280"/>
            <a:ext cx="4859280" cy="6431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when back side of material can not be reac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to connect a blind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67080" y="2514600"/>
            <a:ext cx="4724640" cy="3110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 hole to correct size for pop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lip pop rivet into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king sure it is pushed in all the way up to the fl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825640" cy="4095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p riveting proced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the pop rivet gun over the pointed end of the riv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40080" indent="-640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seat the rivet squeeze the two handles together until the rivet center pin breaks 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657600" cy="3086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d Metal Process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ing- bending or forming a flat shape into a 3 dimensional obje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700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main forms of breaking me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nd breaking-using specially designed hand too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hand seamer) to bend sheet me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409760" indent="-495360">
              <a:spcBef>
                <a:spcPts val="601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chine Bre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ess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x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784520" indent="-412920">
              <a:spcBef>
                <a:spcPts val="499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an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eaking Mach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025880" cy="2946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5022720" cy="1592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 of Flat shape formed to a 3D shap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1523880"/>
          <a:ext cx="5105520" cy="26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105520" cy="26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76920" y="4038480"/>
          <a:ext cx="4038480" cy="26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4038480"/>
                    <a:ext cx="403848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stening Metal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pp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ve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l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50668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362320" y="1523880"/>
            <a:ext cx="3429000" cy="256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971800" y="4343400"/>
            <a:ext cx="2286000" cy="197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rilling Proced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yout the center of the hole to be dril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 the center with two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-577800"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enter punch the intersecting li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1035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343400" y="1165320"/>
            <a:ext cx="3984480" cy="262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307040" cy="237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lect the correct drill size from a drill index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the drill into the drill chuck and tighten with the chuck ke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3920" y="3938760"/>
            <a:ext cx="3525840" cy="2187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rill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lamp material to the t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lace a drop of cutting fluid on the center punch ma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rn on drill and begin to drill h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33600" indent="-6336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 sure to put even pressure on the dril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1447920"/>
            <a:ext cx="4714920" cy="4876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14800" y="4114800"/>
            <a:ext cx="4705200" cy="1355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utting Thread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13800" indent="-613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are 2 ways to cut thread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rnal Threads (bol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e-cutting threads on the outside of a piece of ro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-5371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ternal Threads (nu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0760" indent="-46044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Garamond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p-cutting threads on the inside of a ho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6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410080" y="1523880"/>
            <a:ext cx="2286000" cy="2173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5:22:57Z</dcterms:created>
  <dc:creator>RPatterson</dc:creator>
  <dc:description/>
  <dc:language>en-US</dc:language>
  <cp:lastModifiedBy>RPatterson</cp:lastModifiedBy>
  <dcterms:modified xsi:type="dcterms:W3CDTF">2009-11-11T21:51:55Z</dcterms:modified>
  <cp:revision>14</cp:revision>
  <dc:subject/>
  <dc:title>Cold Metal Processes</dc:title>
</cp:coreProperties>
</file>